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C194-2F10-46A2-924E-9C7E83BBC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5B8C-022D-4956-B86A-BA3283EBA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215-36FA-4701-B288-AA4011F1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08C-A899-436B-9539-03A2E875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DC5-D051-41B9-9D05-4B3FEF65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CAC-84E4-4454-8C22-8E935821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A01-7A79-4140-8376-7139FF9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6B4-0463-4C25-947C-E7FAA6AD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203-6C7A-448A-A9A4-B2E9491D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A88-0F4F-427F-A64F-2932D27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E43-8F20-419C-8499-EF6F5ECF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EF4-0328-44E9-8858-5EB4D8CC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32D-597E-4EE9-AB6C-C56B41C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AB3-9A10-4E55-BEB8-B543CB1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147-5D07-4D11-84B0-D22FCE93F33C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3044-CC2F-4429-8F89-8A29E4A0A223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8667720" cy="650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G-AGRI-mask-cover.png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Title 5"/>
          <p:cNvSpPr/>
          <p:nvPr/>
        </p:nvSpPr>
        <p:spPr>
          <a:xfrm>
            <a:off x="0" y="1252440"/>
            <a:ext cx="9144000" cy="2320920"/>
          </a:xfrm>
          <a:prstGeom prst="rect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8174520" y="5547600"/>
            <a:ext cx="1432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Ⓒ </a:t>
            </a: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Olof 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GAGRI-signature-EN.png"/>
          <p:cNvPicPr/>
          <p:nvPr/>
        </p:nvPicPr>
        <p:blipFill>
          <a:blip r:embed="rId4"/>
          <a:stretch/>
        </p:blipFill>
        <p:spPr>
          <a:xfrm>
            <a:off x="468360" y="6013440"/>
            <a:ext cx="1638360" cy="368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 as part of “community-led local development” under the CSF; networking asp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mmunity-led local development (CLLD) under the CSF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6489f"/>
                </a:solidFill>
                <a:latin typeface="Arial"/>
              </a:rPr>
              <a:t>Europe 2020 strategy: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 Territorial development on sub-regional level as a cross-cutting issue for inclusive growt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6489f"/>
                </a:solidFill>
                <a:uFillTx/>
                <a:latin typeface="Arial"/>
              </a:rPr>
              <a:t>Legal proposals for CSF Funds 2014-2020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: offer a </a:t>
            </a:r>
            <a:r>
              <a:rPr b="1" lang="de-DE" sz="2000" spc="-1" strike="noStrike">
                <a:solidFill>
                  <a:srgbClr val="16489f"/>
                </a:solidFill>
                <a:latin typeface="Arial"/>
              </a:rPr>
              <a:t>common approach to support community-led local development (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single set of rules Art. 28-31 CSF Reg), complemented by funds-specific features. Th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allows the integrated use of all CSF Funds on sub-regional level for implementing local development strategies (LD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reinforces multi-level governanc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Under the EAFRD, </a:t>
            </a:r>
            <a:r>
              <a:rPr b="1" lang="en-GB" sz="2000" spc="-1" strike="noStrike">
                <a:solidFill>
                  <a:srgbClr val="16489f"/>
                </a:solidFill>
                <a:latin typeface="Arial"/>
              </a:rPr>
              <a:t>Leader is compulsory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 with a minimum of 5% of the EAFRD funding per programme. No ring-fencing for community-led local development in the other Fund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494-CFB1-4B35-B181-BEA81DE636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Priorities and Consistency for CLLD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6489f"/>
                </a:solidFill>
                <a:latin typeface="Arial"/>
              </a:rPr>
              <a:t>Local development carried out by the CSF Funds shall be </a:t>
            </a:r>
            <a:r>
              <a:rPr b="1" lang="en-GB" sz="1800" spc="-1" strike="noStrike">
                <a:solidFill>
                  <a:srgbClr val="16489f"/>
                </a:solidFill>
                <a:latin typeface="Arial"/>
              </a:rPr>
              <a:t>carried out under one or more priorities </a:t>
            </a:r>
            <a:r>
              <a:rPr b="0" lang="en-GB" sz="1800" spc="-1" strike="noStrike">
                <a:solidFill>
                  <a:srgbClr val="16489f"/>
                </a:solidFill>
                <a:latin typeface="Arial"/>
              </a:rPr>
              <a:t>of the programme (Art. 28.5 CSF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6489f"/>
                </a:solidFill>
                <a:latin typeface="Arial"/>
              </a:rPr>
              <a:t>EAFRD: </a:t>
            </a: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MS are free to decide under which priority(ies) they implement Leader; however, the 6th priority directly addresses local development in rural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6489f"/>
                </a:solidFill>
                <a:latin typeface="Arial"/>
              </a:rPr>
              <a:t>ERDF/ESF</a:t>
            </a: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ll actions under CLLD can be financed under the thematic objective no 9: promoting social inclusion and combating poverty (for the ESF with a dedicated investment priority);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EMF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specific objectives for CL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6489f"/>
                </a:solidFill>
                <a:latin typeface="Arial"/>
              </a:rPr>
              <a:t>Consistency and coordination</a:t>
            </a:r>
            <a:r>
              <a:rPr b="0" lang="de-DE" sz="1800" spc="-1" strike="noStrike">
                <a:solidFill>
                  <a:srgbClr val="16489f"/>
                </a:solidFill>
                <a:latin typeface="Arial"/>
              </a:rPr>
              <a:t> of the support to CLLD between the CSF Funds to be ensured at all stages (Art. 28.2 CSF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Capacity building to build partnerships and design 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Selection and approval of the LDSs (incl. setting up a joint selection committee in case of multi-fu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Funding of the implementation of the L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6489f"/>
                </a:solidFill>
                <a:latin typeface="Arial"/>
              </a:rPr>
              <a:t>Need to define implementing arrangements for CLLD in the Partnership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F6A-FE4F-456A-A9D4-F20EAE2DE8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Strategic choices of MS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Multi-funded or mono-funded CLL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If multi-funded CLLDs are possible, LAGs have the option to develop multi-fund L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Types of territories to be covered with CLLDs (rural, coastal, urban or combine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Forms of preparatory support to be used before selection of LDS (EAFRD: Leader start-up kit?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Design of CLLD implementation system (tasks of LAGs, use of intermediate bodies: Art. 73.2 EAFR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E5D-BDB5-477F-8BB9-3468028A6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Selection/approval process of multi-funded LDS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S shall defin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citeria for the selection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of LDSs. Fund-specific rules 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may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et out selection criteria. </a:t>
            </a:r>
            <a:r>
              <a:rPr b="0" i="1" lang="de-DE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 EAFRD Reg. is </a:t>
            </a:r>
            <a:r>
              <a:rPr b="1" i="1" lang="de-DE" sz="2000" spc="-1" strike="noStrike" u="sng">
                <a:solidFill>
                  <a:srgbClr val="000099"/>
                </a:solidFill>
                <a:uFillTx/>
                <a:latin typeface="Arial"/>
              </a:rPr>
              <a:t>not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 setting out selection criteria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naging authorities have to set up th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selection committee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(joint committee in case of multi-funding) Art. 29.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DS should be approved by the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nd of 2015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4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decision of approval for a LDS by the managing authority should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5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ut the allocations of each CSF F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ut the roles of the authorities responsible for the implementation of the relevant programmes for all implementation tasks relating to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In case of multi-funded LDS MS </a:t>
            </a: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</a:rPr>
              <a:t>can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designate a Lead Fund to cover all management costs (Art. 28.3+4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6DA-5B7C-41F8-9DCC-5836AFB523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99"/>
                </a:solidFill>
                <a:latin typeface="Arial"/>
              </a:rPr>
              <a:t>Networking instruments for Leader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n the level of the Member Stat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ational Rural Netwo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of the LAGs for monitoring and evaluation of their local development strategies (Art. 55.3 (b) (iii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rovision of training activities for programme implementing bodies and local action groups in the process of formation (Art. 55.3 (b) (iv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Networking activities for LAGs and in particular technical assistance for inter-territorial and transnational cooperation, facilitation of cooperation among LAGs (Art. 55.3 (b) (vii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C2D-2EFC-44FE-8E91-C38043528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99"/>
                </a:solidFill>
                <a:latin typeface="Arial"/>
              </a:rPr>
              <a:t>Networking instruments for Leader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n EU level: European Network for Rural Develop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national networks (Art. 52.3 (f) EAF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transnational cooperation initiatives (Art. 52.3 (f) EAF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99"/>
                </a:solidFill>
                <a:latin typeface="Arial"/>
              </a:rPr>
              <a:t>not only for Leader</a:t>
            </a: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pecifically for LAGs (Art. 52.3 (g) EAFR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Create synergies with the activities carried out on national and regional level by the respective networks with regard to capacity building actions and exchange of experienc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cooperate with the networking and technical support bodies for local development set up by the ERDF, the ESF and the EMFF as regards their local development activities and transnational co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7CA-8E47-4296-8EA0-6BCE4C4B6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E5F-6C09-47E5-AFB9-945013C0E2F7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E0A-D224-4B59-94E5-0BF169626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5:29:45Z</dcterms:created>
  <dc:creator>folkecn</dc:creator>
  <dc:description/>
  <dc:language>en-US</dc:language>
  <cp:lastModifiedBy>LOUWERSE</cp:lastModifiedBy>
  <dcterms:modified xsi:type="dcterms:W3CDTF">2012-01-18T09:26:50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 by">
    <vt:lpwstr>agri-publications@ec.europa.eu</vt:lpwstr>
  </property>
  <property fmtid="{D5CDD505-2E9C-101B-9397-08002B2CF9AE}" pid="3" name="_NewReviewCycle">
    <vt:lpwstr/>
  </property>
</Properties>
</file>