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E62-AA7F-42CF-B9ED-BFD8841E68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4719-51D3-4CD8-8064-C2B826572F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C0F-0AC7-4D4C-A34D-28DA70B6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449-4DC6-48CB-840E-64214596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E94-7A50-4678-AFB2-EFED1F84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0F6F-F500-4F06-96DE-BA59380A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A3D-785F-4349-B468-74CBE870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8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A1B-A44F-494A-9CC8-DA3C3A78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F98-D732-405F-A6DB-AE7474C4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BD8-E601-4A04-8E4F-C4289184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044-8E39-4FA9-8554-772FC207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477-F333-4A28-A9C9-75C162FC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8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31F-DE2A-40BD-B5DE-5A7DF2F5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8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1C0-D8B9-415F-9A03-B2B8F301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DG-AGRI-mask-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58512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B2DA-2F3B-4F37-8BB9-76288CD96901}" type="datetime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16360" y="6571800"/>
            <a:ext cx="329544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A0C3-516C-4C5D-B197-D8D1014DB1D9}" type="slidenum">
              <a:rPr b="1" lang="en-GB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68360" y="604512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250920" y="189000"/>
            <a:ext cx="8667720" cy="650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DG-AGRI-mask-cover.png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Title 5"/>
          <p:cNvSpPr/>
          <p:nvPr/>
        </p:nvSpPr>
        <p:spPr>
          <a:xfrm>
            <a:off x="0" y="1252440"/>
            <a:ext cx="9144000" cy="2320920"/>
          </a:xfrm>
          <a:prstGeom prst="rect">
            <a:avLst/>
          </a:prstGeom>
          <a:solidFill>
            <a:srgbClr val="0d0d0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79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8174520" y="5547600"/>
            <a:ext cx="1432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Ⓒ </a:t>
            </a:r>
            <a:r>
              <a:rPr b="1" lang="en-GB" sz="600" spc="-1" strike="noStrike">
                <a:solidFill>
                  <a:srgbClr val="808080"/>
                </a:solidFill>
                <a:latin typeface="Arial"/>
                <a:ea typeface="Arial Unicode MS"/>
              </a:rPr>
              <a:t>Olof 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GAGRI-signature-EN.png"/>
          <p:cNvPicPr/>
          <p:nvPr/>
        </p:nvPicPr>
        <p:blipFill>
          <a:blip r:embed="rId4"/>
          <a:stretch/>
        </p:blipFill>
        <p:spPr>
          <a:xfrm>
            <a:off x="468360" y="6013440"/>
            <a:ext cx="1638360" cy="368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79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er as part of “community-led local development” under the CSF; networking asp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ommunity-led local development (CLLD) under the CSF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6489f"/>
                </a:solidFill>
                <a:latin typeface="Arial"/>
              </a:rPr>
              <a:t>Europe 2020 strategy:</a:t>
            </a:r>
            <a:r>
              <a:rPr b="0" lang="en-GB" sz="2000" spc="-1" strike="noStrike">
                <a:solidFill>
                  <a:srgbClr val="16489f"/>
                </a:solidFill>
                <a:latin typeface="Arial"/>
              </a:rPr>
              <a:t> Territorial development on sub-regional level as a cross-cutting issue for inclusive growt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6489f"/>
                </a:solidFill>
                <a:uFillTx/>
                <a:latin typeface="Arial"/>
              </a:rPr>
              <a:t>Legal proposals for CSF Funds 2014-2020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: offer a </a:t>
            </a:r>
            <a:r>
              <a:rPr b="1" lang="de-DE" sz="2000" spc="-1" strike="noStrike">
                <a:solidFill>
                  <a:srgbClr val="16489f"/>
                </a:solidFill>
                <a:latin typeface="Arial"/>
              </a:rPr>
              <a:t>common approach to support community-led local development (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single set of rules Art. 28-31 CSF Reg), complemented by funds-specific features. Thi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16489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16489f"/>
                </a:solidFill>
                <a:latin typeface="Arial"/>
              </a:rPr>
              <a:t>allows the integrated use of all CSF Funds on sub-regional level for implementing local development strategies (LD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16489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16489f"/>
                </a:solidFill>
                <a:latin typeface="Arial"/>
              </a:rPr>
              <a:t>reinforces multi-level governanc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89f"/>
                </a:solidFill>
                <a:latin typeface="Arial"/>
              </a:rPr>
              <a:t>Under the EAFRD, </a:t>
            </a:r>
            <a:r>
              <a:rPr b="1" lang="en-GB" sz="2000" spc="-1" strike="noStrike">
                <a:solidFill>
                  <a:srgbClr val="16489f"/>
                </a:solidFill>
                <a:latin typeface="Arial"/>
              </a:rPr>
              <a:t>Leader is compulsory</a:t>
            </a:r>
            <a:r>
              <a:rPr b="0" lang="en-GB" sz="2000" spc="-1" strike="noStrike">
                <a:solidFill>
                  <a:srgbClr val="16489f"/>
                </a:solidFill>
                <a:latin typeface="Arial"/>
              </a:rPr>
              <a:t> with a minimum of 5% of the EAFRD funding per programme. No ring-fencing for community-led local development in the other Fund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98F-A0BC-4523-9AE9-D17860D62A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9999"/>
                </a:solidFill>
                <a:latin typeface="Arial"/>
              </a:rPr>
              <a:t>Priorities and Consistency for CLLD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6489f"/>
                </a:solidFill>
                <a:latin typeface="Arial"/>
              </a:rPr>
              <a:t>Local development carried out by the CSF Funds shall be </a:t>
            </a:r>
            <a:r>
              <a:rPr b="1" lang="en-GB" sz="1800" spc="-1" strike="noStrike">
                <a:solidFill>
                  <a:srgbClr val="16489f"/>
                </a:solidFill>
                <a:latin typeface="Arial"/>
              </a:rPr>
              <a:t>carried out under one or more priorities </a:t>
            </a:r>
            <a:r>
              <a:rPr b="0" lang="en-GB" sz="1800" spc="-1" strike="noStrike">
                <a:solidFill>
                  <a:srgbClr val="16489f"/>
                </a:solidFill>
                <a:latin typeface="Arial"/>
              </a:rPr>
              <a:t>of the programme (Art. 28.5 CSF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6489f"/>
                </a:solidFill>
                <a:latin typeface="Arial"/>
              </a:rPr>
              <a:t>EAFRD: </a:t>
            </a: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MS are free to decide under which priority(ies) they implement Leader; however, the 6th priority directly addresses local development in rural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16489f"/>
                </a:solidFill>
                <a:latin typeface="Arial"/>
              </a:rPr>
              <a:t>ERDF/ESF</a:t>
            </a: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ll actions under CLLD can be financed under the thematic objective no 9: promoting social inclusion and combating poverty (for the ESF with a dedicated investment priority);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EMF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specific objectives for CL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6489f"/>
                </a:solidFill>
                <a:latin typeface="Arial"/>
              </a:rPr>
              <a:t>Consistency and coordination</a:t>
            </a:r>
            <a:r>
              <a:rPr b="0" lang="de-DE" sz="1800" spc="-1" strike="noStrike">
                <a:solidFill>
                  <a:srgbClr val="16489f"/>
                </a:solidFill>
                <a:latin typeface="Arial"/>
              </a:rPr>
              <a:t> of the support to CLLD between the CSF Funds to be ensured at all stages (Art. 28.2 CSF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Capacity building to build partnerships and design 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Selection and approval of the LDSs (incl. setting up a joint selection committee in case of multi-fun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16489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16489f"/>
                </a:solidFill>
                <a:latin typeface="Arial"/>
              </a:rPr>
              <a:t>Funding of the implementation of the L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16489f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16489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16489f"/>
                </a:solidFill>
                <a:latin typeface="Arial"/>
              </a:rPr>
              <a:t>Need to define implementing arrangements for CLLD in the Partnership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C48-3CC2-4A1D-815E-8D23853A5D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9999"/>
                </a:solidFill>
                <a:latin typeface="Arial"/>
              </a:rPr>
              <a:t>Strategic choices of MS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Multi-funded or mono-funded CLL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If multi-funded CLLDs are possible, LAGs have the option to develop multi-fund L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Types of territories to be covered with CLLDs (rural, coastal, urban or combined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Forms of preparatory support to be used before selection of LDS (EAFRD: Leader start-up kit?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16489f"/>
                </a:solidFill>
                <a:latin typeface="Arial"/>
              </a:rPr>
              <a:t>Design of CLLD implementation system (tasks of LAGs, use of intermediate bodies: Art. 73.2 EAFRD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2AA-EC93-4687-818E-0166989901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9999"/>
                </a:solidFill>
                <a:latin typeface="Arial"/>
              </a:rPr>
              <a:t>Selection/approval process of multi-funded LDS</a:t>
            </a:r>
            <a:endParaRPr b="1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S shall define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citeria for the selection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of LDSs. Fund-specific rules </a:t>
            </a:r>
            <a:r>
              <a:rPr b="0" i="1" lang="de-DE" sz="2000" spc="-1" strike="noStrike">
                <a:solidFill>
                  <a:srgbClr val="000099"/>
                </a:solidFill>
                <a:latin typeface="Arial"/>
              </a:rPr>
              <a:t>may 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set out selection criteria. </a:t>
            </a:r>
            <a:r>
              <a:rPr b="0" i="1" lang="de-DE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i="1" lang="de-DE" sz="2000" spc="-1" strike="noStrike">
                <a:solidFill>
                  <a:srgbClr val="000099"/>
                </a:solidFill>
                <a:latin typeface="Arial"/>
              </a:rPr>
              <a:t> EAFRD Reg. is </a:t>
            </a:r>
            <a:r>
              <a:rPr b="1" i="1" lang="de-DE" sz="2000" spc="-1" strike="noStrike" u="sng">
                <a:solidFill>
                  <a:srgbClr val="000099"/>
                </a:solidFill>
                <a:uFillTx/>
                <a:latin typeface="Arial"/>
              </a:rPr>
              <a:t>not</a:t>
            </a:r>
            <a:r>
              <a:rPr b="0" i="1" lang="de-DE" sz="2000" spc="-1" strike="noStrike">
                <a:solidFill>
                  <a:srgbClr val="000099"/>
                </a:solidFill>
                <a:latin typeface="Arial"/>
              </a:rPr>
              <a:t> setting out selection criteria (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Art. 29.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Managing authorities have to set up the </a:t>
            </a: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selection committee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(joint committee in case of multi-funding) Art. 29.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DS should be approved by the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end of 2015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Art. 29.4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he decision of approval for a LDS by the managing authority should (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Art. 29.5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out the allocations of each CSF Fun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out the roles of the authorities responsible for the implementation of the relevant programmes for all implementation tasks relating to th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In case of multi-funded LDS MS </a:t>
            </a:r>
            <a:r>
              <a:rPr b="1" lang="de-DE" sz="2000" spc="-1" strike="noStrike" u="sng">
                <a:solidFill>
                  <a:srgbClr val="000099"/>
                </a:solidFill>
                <a:uFillTx/>
                <a:latin typeface="Arial"/>
              </a:rPr>
              <a:t>can</a:t>
            </a:r>
            <a:r>
              <a:rPr b="0" lang="de-DE" sz="2000" spc="-1" strike="noStrike">
                <a:solidFill>
                  <a:srgbClr val="000099"/>
                </a:solidFill>
                <a:latin typeface="Arial"/>
              </a:rPr>
              <a:t> designate a Lead Fund to cover all management costs (Art. 28.3+4)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235-5AF0-430B-9BB8-2302A5CE08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99"/>
                </a:solidFill>
                <a:latin typeface="Arial"/>
              </a:rPr>
              <a:t>Networking instruments for Leader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On the level of the Member State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National Rural Networ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upport of the LAGs for monitoring and evaluation of their local development strategies (Art. 55.3 (b) (iii) EAFRD R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Provision of training activities for programme implementing bodies and local action groups in the process of formation (Art. 55.3 (b) (iv) EAFRD R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Networking activities for LAGs and in particular technical assistance for inter-territorial and transnational cooperation, facilitation of cooperation among LAGs (Art. 55.3 (b) (vii) EAFRD Re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F82D-5AE4-450F-90EA-5E16CBA4D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9999"/>
                </a:solidFill>
                <a:latin typeface="Arial"/>
              </a:rPr>
              <a:t>Networking instruments for Leader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On EU level: European Network for Rural Develop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upport national networks (Art. 52.3 (f) EAF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upport transnational cooperation initiatives (Art. 52.3 (f) EAF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de-DE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de-DE" sz="1800" spc="-1" strike="noStrike">
                <a:solidFill>
                  <a:srgbClr val="000099"/>
                </a:solidFill>
                <a:latin typeface="Arial"/>
              </a:rPr>
              <a:t>not only for Leader</a:t>
            </a: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Specifically for LAGs (Art. 52.3 (g) EAFR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</a:rPr>
              <a:t>Create synergies with the activities carried out on national and regional level by the respective networks with regard to capacity building actions and exchange of experience;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99"/>
                </a:solidFill>
                <a:latin typeface="Arial"/>
              </a:rPr>
              <a:t>cooperate with the networking and technical support bodies for local development set up by the ERDF, the ESF and the EMFF as regards their local development activities and transnational co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CE6-DF24-4276-84B0-32F0079F83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1c1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5"/>
          <p:cNvSpPr/>
          <p:nvPr/>
        </p:nvSpPr>
        <p:spPr>
          <a:xfrm>
            <a:off x="6553080" y="6453360"/>
            <a:ext cx="213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AD8B-CEA3-41BB-9314-D94EECBF2952}" type="slidenum">
              <a:rPr b="1" lang="en-GB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0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D14-BE86-4DE4-A5EE-D17FA58B87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5:29:45Z</dcterms:created>
  <dc:creator>folkecn</dc:creator>
  <dc:description/>
  <dc:language>en-US</dc:language>
  <cp:lastModifiedBy>LOUWERSE</cp:lastModifiedBy>
  <dcterms:modified xsi:type="dcterms:W3CDTF">2012-01-18T09:26:50Z</dcterms:modified>
  <cp:revision>6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 by">
    <vt:lpwstr>agri-publications@ec.europa.eu</vt:lpwstr>
  </property>
  <property fmtid="{D5CDD505-2E9C-101B-9397-08002B2CF9AE}" pid="3" name="_NewReviewCycle">
    <vt:lpwstr/>
  </property>
</Properties>
</file>