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026A-E64E-4FC7-AB98-B9ABE6690C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81D5-3E28-4C47-8C60-87D39469AD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177-8E9A-455C-A67A-7128C8C0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72F-E316-4EC9-B36B-9DFAF330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A2F-85CA-4DC0-9528-872CFAC8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276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276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D02-7496-4E0C-B35E-353CAEE9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5606-1F62-41D2-AC68-9BF4AF3B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CCFC-2A91-4FFA-82F3-5E363276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2EF3-79FE-49BE-997A-2BA06414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601A-C0DB-4D95-8840-A3D6EE57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9849-38FB-42F5-818E-0E72DA75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9802-DDA5-4DAB-8A6A-8D23F76D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4C14-B8A9-4232-8F0C-27CB14B4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787-CDC7-4EE6-BE3A-A57E1671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931B-B16E-48F0-85E8-D7760233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AA39-BADF-4321-9856-E486B3F9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EA0F-E951-42B4-B19C-6906402A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2399-C601-4FEE-B981-47A5F79C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276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276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5F07-09C0-4503-9253-12D2E02A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68F-80A8-418B-9166-4D989F58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5FB-6139-4A10-8DD7-31438E50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CA4-582A-4AF7-93A1-C212025D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161-51C0-4747-920B-F3F13ED8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886-07BB-4A7A-B27B-4493E078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CFC3-05DD-443F-A20B-79F4B6E1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825-0E80-41CD-941F-ADA4F2D1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6" descr="PP03"/>
          <p:cNvPicPr/>
          <p:nvPr/>
        </p:nvPicPr>
        <p:blipFill>
          <a:blip r:embed="rId2"/>
          <a:stretch/>
        </p:blipFill>
        <p:spPr>
          <a:xfrm>
            <a:off x="-541440" y="33480"/>
            <a:ext cx="9685440" cy="80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0000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ural Development in the CAP post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FF36-7FF9-4665-9A66-5C2070B72C10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PP01"/>
          <p:cNvPicPr/>
          <p:nvPr/>
        </p:nvPicPr>
        <p:blipFill>
          <a:blip r:embed="rId2"/>
          <a:stretch/>
        </p:blipFill>
        <p:spPr>
          <a:xfrm>
            <a:off x="0" y="44280"/>
            <a:ext cx="10117080" cy="106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PP02"/>
          <p:cNvPicPr/>
          <p:nvPr/>
        </p:nvPicPr>
        <p:blipFill>
          <a:blip r:embed="rId3"/>
          <a:stretch/>
        </p:blipFill>
        <p:spPr>
          <a:xfrm>
            <a:off x="1731960" y="1197000"/>
            <a:ext cx="4135320" cy="82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258560" y="6462720"/>
            <a:ext cx="129708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56000" y="6462720"/>
            <a:ext cx="568800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ural Development in the CAP post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1F62-229E-441E-9395-03609724BA0D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4"/>
          <p:cNvSpPr/>
          <p:nvPr/>
        </p:nvSpPr>
        <p:spPr>
          <a:xfrm>
            <a:off x="1258920" y="6462720"/>
            <a:ext cx="1297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2556000" y="6462720"/>
            <a:ext cx="568800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0509-C3BB-4505-90FC-D342FAB2FE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53989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RAL DEVELOPMENT IN THE CAP POST 201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000" y="3789360"/>
            <a:ext cx="53989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ttila JAM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ssistant 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Corvinus University of Buda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35C1-4B17-4514-BECD-6735091765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 of rural development poli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ques of the curr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per indicators, baseline values, policy goals, the ineffectiveness of measuring causality and tim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 towards a more outcome based evaluation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sessment against clear and measurable objec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edback of results to policy mak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and programme level targets are envis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ision on what growth to measure is of utmost import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ality of targets and measurement methods is recommen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sible set of incentives to respect successful programme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80BB-D00C-42A8-BA1C-97DF7CDDC4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future RDP evaluation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2060640"/>
          <a:ext cx="8229600" cy="3960720"/>
        </p:xfrm>
        <a:graphic>
          <a:graphicData uri="http://schemas.openxmlformats.org/drawingml/2006/table">
            <a:tbl>
              <a:tblPr/>
              <a:tblGrid>
                <a:gridCol w="1657440"/>
                <a:gridCol w="3286080"/>
                <a:gridCol w="3286080"/>
              </a:tblGrid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m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cro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ative evaluation of achieving EU leve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ative evaluation of achieving programme leve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cro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ative evaluation of achieving EU leve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ative evaluation of achieving programme leve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696F-81A1-44B6-8A59-9B47D28120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ary concer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 Budget seems likely to be cut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structuring resources by pillars and Member St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figuration of the pillars appears to affect their respective budgetary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ossible role of rural development inside the first pillar is uncl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ocation by Member States by objective criteria, linked to quantifiable targets, is highl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gricultural are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TURA 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DP/capit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8F59-D71B-4DC4-8934-497440B079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49636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 of rural development in the EU policy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agricultural and cohesion policies have strong links to rur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eople are seeking an overall improvement, irrespective of sector</a:t>
            </a: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-related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polici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ion of all rural related policies by establishing a new fund is highly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fficiency growth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crease of overla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etter coordin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B4DE-D2AC-4304-9A4B-57E607E49D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 proposals lack details and are partially consistent with challe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uture CAP will be determined by several institutional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ole of rural development seems to be downgraded in the second pi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ajor changes in priorities are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visag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ough poverty is one of the most press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and risk management toolkit seem to strengthen current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F6C5-8B7F-45BD-935B-24349CD879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RDPs should focus on an outcome based approach, containing a duality of targets and measuremen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ing of budget resources should be based on objectiv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all rural related policies under a common umbrella is needed by establishing a new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CAP should recognise the diversity of EU agriculture as well as the inappropriateness of the ”one-size-fits-all”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4"/>
          <p:cNvSpPr/>
          <p:nvPr/>
        </p:nvSpPr>
        <p:spPr>
          <a:xfrm>
            <a:off x="1258920" y="6462720"/>
            <a:ext cx="1297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2556000" y="6462720"/>
            <a:ext cx="568800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B581-5788-467E-8809-87C9B87C1D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53989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68000" y="3789360"/>
            <a:ext cx="5398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60B3-44DF-49ED-AB10-EE348CBE9A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reflections on the EC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hallenges and objec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nsistency between the challenges and the propos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ole of rural development in the future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uture prioritie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valuation of rural development policie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udgetary concern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7606-A75B-4093-A16D-1D7710C92C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 under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w challen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xt financial peri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 of the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ril, June and November of 20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fficial Communication (18/11/201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x policy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4561-D575-4901-93AE-34FFD455CD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496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challenges and proposals of the C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conomic (food security, market stability, food chain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vironmental (GHG emissions, soil depletion, water/air quality, habitats and biodiversit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cio-territorial (vitality of rural areas, diversity of EU agricultur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able food prod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stainable management of natural resources and climate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lanced territorial develop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C3C5-BFD3-4F68-A58B-6513B28F84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stency of proposals to meet economic challe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justed direct payments – economic or social issu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sible overlaps between the pill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lace of the risk management toolkit is doubtfu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rther details on specific markets are uncl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 of food supply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ecific measures of competitiveness enhancement are miss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lence on the links between competitiveness and trade poli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C125-9CDC-48A5-9B4A-BBF80C1E71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stency of proposals to meet environmental challe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jority of proposals are dealing with the provision of environmental public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ocial public goods are not mentio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sufficiency of measurement metho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stitutional and administrative </a:t>
            </a: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oubtful coherence with agri-environmental program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bout green growth and climate change mitig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D819-AC36-4802-8390-97C7BE0FB2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stency of proposals to meet socio-territorial challe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development proposals are v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ural employment suppo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hance rural economy and diversif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 conditions for small far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NMS do not seem to be recog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are mi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orities, evaluation, budgetary concer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09E7-DB32-47FE-84C2-E6E1708C59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ole of rural development in the future C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ppointing lack of signals regarding rur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s role in the second pillar seems to be downgra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novation and risk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tter targeted and evaluated program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dgetary reallocations between pill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tential introduction of a common strategic frame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ture prior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ation of rural development polici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dgetary concer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A78C-503A-4F32-A95E-E432CA90FF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prior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mote competitive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hance the sustainable management of natural re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 balanced development of rural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ts on possible future overlaps between pi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ally concerning ”handicapped” payments and public goo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ral poverty should be a leading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cal employment enhanc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rease the urban/rural income g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2:22:53Z</dcterms:created>
  <dc:creator>chiapre</dc:creator>
  <dc:description/>
  <dc:language>en-US</dc:language>
  <cp:lastModifiedBy>jlittle</cp:lastModifiedBy>
  <dcterms:modified xsi:type="dcterms:W3CDTF">2011-02-03T15:56:48Z</dcterms:modified>
  <cp:revision>22</cp:revision>
  <dc:subject/>
  <dc:title>Slide 1</dc:title>
</cp:coreProperties>
</file>