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BFCA-6563-4B11-AD18-B5B4B36913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4B21-85F4-4615-A744-4AF3EEB883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096-628A-476A-AC04-68AFE125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A30-605F-4DE1-8113-E74CC382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1C2-76F3-4777-8EC8-90C20701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E3B-F59D-482E-8EA0-213CE20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654C-0EAE-488A-8B44-0A91E851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14B6-EA9D-44DE-862E-E25FE584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E50B-0775-4F78-B5B2-754516E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7C89-EA70-4485-948D-5118F7F2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924C-94EC-4198-8DAB-5F3FF180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75A-D818-4FA9-95E6-61729AD2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BDAE-BAA8-4A76-B65E-DFDE95B4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99F-90E9-41D2-8CF4-0AFA94A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29BE-F62A-4381-8748-80F203F0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1307-2ED3-412F-9BFC-0187DE9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9B24-294D-4D6F-A32A-BB786020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BBA1-828A-4240-BA75-86F1C3A1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27664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45560"/>
            <a:ext cx="264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AA9C-437C-4EC8-AFB4-C0EE95C9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7D2-0386-4CA1-8919-1E1D71A7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61D-9C78-4DAB-903A-F6B14E2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585-3A0F-44E4-A943-381F568B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1970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D52-83D6-4B0B-B7E2-4FD5F7EA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007-DDF5-445B-8D3B-8437955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4556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513-E9FB-405C-9F49-A541E3D8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76640"/>
            <a:ext cx="40158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5560"/>
            <a:ext cx="8229600" cy="18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DD5-CEBB-4643-8E80-85E98DCB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" descr="PP03"/>
          <p:cNvPicPr/>
          <p:nvPr/>
        </p:nvPicPr>
        <p:blipFill>
          <a:blip r:embed="rId2"/>
          <a:stretch/>
        </p:blipFill>
        <p:spPr>
          <a:xfrm>
            <a:off x="-541440" y="33480"/>
            <a:ext cx="9685440" cy="80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70000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ural Development in the CAP post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DFC0-49B4-4C5A-AE3F-59574F72B95C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PP01"/>
          <p:cNvPicPr/>
          <p:nvPr/>
        </p:nvPicPr>
        <p:blipFill>
          <a:blip r:embed="rId2"/>
          <a:stretch/>
        </p:blipFill>
        <p:spPr>
          <a:xfrm>
            <a:off x="0" y="44280"/>
            <a:ext cx="10117080" cy="1060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PP02"/>
          <p:cNvPicPr/>
          <p:nvPr/>
        </p:nvPicPr>
        <p:blipFill>
          <a:blip r:embed="rId3"/>
          <a:stretch/>
        </p:blipFill>
        <p:spPr>
          <a:xfrm>
            <a:off x="1731960" y="1197000"/>
            <a:ext cx="413532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5856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Times New Roman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ural Development in the CAP post 20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E07-CD46-4EAA-9AEB-F90C35B604E6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4"/>
          <p:cNvSpPr/>
          <p:nvPr/>
        </p:nvSpPr>
        <p:spPr>
          <a:xfrm>
            <a:off x="125892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C927-86AA-4843-A878-0FB08219B4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53989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RAL DEVELOPMENT IN THE CAP POST 2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8000" y="3789360"/>
            <a:ext cx="53989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ttila JAM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ssistant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Corvinus University of 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6C0B-1AED-4C3A-8D26-F5C5624D00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ques of the curr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per indicators, baseline values, policy goals, the ineffectiveness of measuring causality and tim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ift towards a more outcome based evaluation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sessment against clear and measurable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edback of results to policy mak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and programme level targets are envis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sion on what growth to measure is of utmost import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ality of targets and measurement methods is recommen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set of incentives to respect successful programmes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211-F880-4B98-AE1E-F76993FE4F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future RDP evaluation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2060640"/>
          <a:ext cx="8229600" cy="3960720"/>
        </p:xfrm>
        <a:graphic>
          <a:graphicData uri="http://schemas.openxmlformats.org/drawingml/2006/table">
            <a:tbl>
              <a:tblPr/>
              <a:tblGrid>
                <a:gridCol w="1657440"/>
                <a:gridCol w="3286080"/>
                <a:gridCol w="3286080"/>
              </a:tblGrid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me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cro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ative evaluation of achieving EU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ative evaluation of achieving programme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cro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ative evaluation of achieving EU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ative evaluation of achieving programme level targ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2A3D-16CA-431D-808B-A9AAE65BA0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P Budget seems likely to be cut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structuring resources by pillars and Member St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nfiguration of the pillars appears to affect their respective budgetar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ossible role of rural development inside the first pillar is uncl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ocation by Member States by objective criteria, linked to quantifiable targets, is highly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gricultural are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ATURA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DP/capit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378A-D903-45CE-B25F-043403833E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849636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 of rural development in the EU policy frame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agricultural and cohesion policies have strong links to rur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eople are seeking an overall improvement, irrespective of sector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-related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polici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ion of all rural related policies by establishing a new fund is highly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fficiency growt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crease of overla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etter coordin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EEB-E26F-4E15-8842-4AB30774C4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cation proposals lack details and are partially consistent with 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uture CAP will be determined by several institutional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ole of rural development seems to be downgraded in the second pil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major changes in priorities are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isag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ough poverty is one of the most press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and risk management toolkit seem to strengthen current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F616-CCF0-41A6-9F19-5F12FA9C21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RDPs should focus on an outcome based approach, containing a duality of targets and measuremen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of budget resources should be based on objec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all rural related policies under a common umbrella is needed by establishing a new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CAP should recognise the diversity of EU agriculture as well as the inappropriateness of the ”one-size-fits-all”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4"/>
          <p:cNvSpPr/>
          <p:nvPr/>
        </p:nvSpPr>
        <p:spPr>
          <a:xfrm>
            <a:off x="1258920" y="6462720"/>
            <a:ext cx="12970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2556000" y="6462720"/>
            <a:ext cx="568800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96E0-CFCB-43D9-9821-72F12E1430A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565360"/>
            <a:ext cx="53989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000" y="3789360"/>
            <a:ext cx="5398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5AB8-CEC6-4CDB-8704-CAB147088EE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reflections on the EC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hallenges and objecti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sistency between the challenges and the proposal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ole of rural development in the future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2DDD-F07C-4D4E-B406-9485C901ED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P under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w challen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xt financial peri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 of th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, June and November of 20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fficial Communication (18/11/2010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x polic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0503-61D9-4523-87CC-11A64EE935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496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challenges and proposals of the C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conomic (food security, market stability, food chai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vironmental (GHG emissions, soil depletion, water/air quality, habitats and biodiversit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o-territorial (vitality of rural areas, diversity of EU agricultur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able food pro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stainable management of natural resources and climate 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alanced territorial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899-305D-4A84-9B91-9AA4535A0A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496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economic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justed direct payments – economic or social issu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sible overlaps between the pi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lace of the risk management toolkit is doubtfu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rther details on specific markets are uncl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of food supply ch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pecific measures of competitiveness enhancement are miss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lence on the links between competitiveness and trade polic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6FE5-6E51-49A6-BD6C-91073D76A2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environmental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jority of proposals are dealing with the provision of environmental public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ocial public goods are not mention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sufficiency of measurement metho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stitutional and administrative </a:t>
            </a: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oubtful coherence with agri-environmental program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bout green growth and climate change mitig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1E91-A337-4C40-B47A-891D38317F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stency of proposals to meet socio-territorial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development proposals are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ural employment suppo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hance rural economy and diversif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prove conditions for small far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NMS do not seem to be recog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are m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iorities, evaluation, budgetary concer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699-51CD-4A44-9FC1-12A6EB520C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role of rural development in the future C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ppointing lack of signals regarding rur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s role in the second pillar seems to be downgra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novation and risk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tter targeted and evaluated programm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dgetary reallocations between pill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tential introduction of a common strategic frame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aluation of rural development polici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dgetary concer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átum helye 3"/>
          <p:cNvSpPr/>
          <p:nvPr/>
        </p:nvSpPr>
        <p:spPr>
          <a:xfrm>
            <a:off x="1619280" y="6462720"/>
            <a:ext cx="1008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07/02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Élőláb helye 4"/>
          <p:cNvSpPr/>
          <p:nvPr/>
        </p:nvSpPr>
        <p:spPr>
          <a:xfrm>
            <a:off x="2700360" y="6462720"/>
            <a:ext cx="5543640" cy="395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ural Development in the CAP pos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ia számának helye 5"/>
          <p:cNvSpPr/>
          <p:nvPr/>
        </p:nvSpPr>
        <p:spPr>
          <a:xfrm>
            <a:off x="8244000" y="6462720"/>
            <a:ext cx="900000" cy="395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B60-5250-4CD2-A358-0E27A159D5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prior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mote competitiven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hance the sustainable management of natural resour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ate a balanced development of rural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ts on possible future overlaps between pi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ally concerning ”handicapped” payments and public goo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ral poverty should be a leading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l employment enhanc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rease the urban/rural income g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2:22:53Z</dcterms:created>
  <dc:creator>chiapre</dc:creator>
  <dc:description/>
  <dc:language>en-US</dc:language>
  <cp:lastModifiedBy>jlittle</cp:lastModifiedBy>
  <dcterms:modified xsi:type="dcterms:W3CDTF">2011-02-03T15:56:48Z</dcterms:modified>
  <cp:revision>22</cp:revision>
  <dc:subject/>
  <dc:title>Slide 1</dc:title>
</cp:coreProperties>
</file>