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8CCE-F530-4F19-8E19-CC4CB4D0B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4441-3F45-477F-8753-5606A8986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5A57-AC77-4E89-9EA5-04674A93E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90DC-C7B0-4B54-9469-126395215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60240" y="391680"/>
            <a:ext cx="55389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2900-9883-4A13-BD2D-5FCDEEC2D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4916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404520"/>
            <a:ext cx="250236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B72D-763F-450D-865D-2C5038E1C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C6AA-6E0D-415E-ABC0-59E8BE709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7ED0-C1CF-4AC5-BF6A-6C4C39BF5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60240" y="391680"/>
            <a:ext cx="55389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6E66-ED46-42D3-9943-C677F0B91D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9BD9-69C4-4E1F-9F2B-338536779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40452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998C-C7F4-4B35-AD5D-8AA519216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9160"/>
            <a:ext cx="37926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404520"/>
            <a:ext cx="7772400" cy="160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F72D-161C-46FD-953E-E2ED44CA6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9160"/>
            <a:ext cx="777240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46200" indent="-2260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60920" indent="-22608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8400" y="611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8757-0C56-4821-9A3A-1FA69CDD7AE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497640" y="399960"/>
            <a:ext cx="1979640" cy="893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47640" y="1371600"/>
            <a:ext cx="7824960" cy="144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230960" y="5881680"/>
            <a:ext cx="122580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93480"/>
            <a:ext cx="7772400" cy="21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5110200"/>
            <a:ext cx="8172720" cy="122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65960" y="415800"/>
            <a:ext cx="1982880" cy="884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" y="1324080"/>
            <a:ext cx="7739280" cy="14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68160" y="2506680"/>
            <a:ext cx="733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lobal Marshall Plan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or a worldwide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co-social Market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E4D7-C662-4E1F-B692-77CD7B727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wide Eco-socia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040" y="1654200"/>
            <a:ext cx="802620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onomy, ecology, social needs and cultural identity as goals of equal priority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lusion of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cological, social and procedural standards into WTO, IMF, World Bank, ILO, UNEP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rules for global financi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6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and comparable taxation systems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B057-B798-4DAB-B66D-17B4E49EAB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61528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for a world-wide Eco-social Market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9520"/>
            <a:ext cx="7772400" cy="35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Win-win Strategy in the sense of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Economy Programm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air development opportunities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ng for the Millennium Development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Fair market economy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nding standards – (co-)financing – market op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 economic miracle”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growth spurt through impulses to investment and increased purchasing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8A04-2D55-47C0-8B72-F24AE6DAC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0240" y="393840"/>
            <a:ext cx="5538960" cy="89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Marshall Plan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64840"/>
            <a:ext cx="7772400" cy="46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New sources of financ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utside national budg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 Gover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linking international institution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UN, WTO, WB, IM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lementation of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ocial and ecological standards (e.g. ILO, UNEP…) in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obal agreements with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qually binding f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Distribution of means tied to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ttom-up” principle (e.g. microcredit banks 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radual acceptance of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nsparency and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577D-C9EA-45D3-993B-32B3A23FEC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640" y="1735200"/>
            <a:ext cx="795816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cided in 2000 – Aims for 2015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lving the number of people with an income of ≤ 1 US dollar per day (currently ca. 1 bill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mentary education for every chil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al treatment and greater influence of wo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duction of infant mortality by 2/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roved health conditions for m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end reversal in infection rates of HIV/AIDS, malaria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able environmental conditions (e.g. water supp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ew form of partnership for development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orld economy under suitable framework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F5DB-323C-472F-BC4F-DBFA85417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n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640" y="1735200"/>
            <a:ext cx="7958160" cy="38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ttaining the Millennium Development Goals will require  an additional</a:t>
            </a:r>
            <a:br>
              <a:rPr sz="2200"/>
            </a:br>
            <a:br>
              <a:rPr sz="2200"/>
            </a:b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a. 120 billion US dollar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 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0.4 % of World GNP</a:t>
            </a: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2008 onwards (2008 to 2015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otal, this equals ca.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960 billion US dollar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UN Zedillo Report; White Paper by Gordon Brown (UK Chancellor of the Exchequer);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rge So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2A71-C7DB-4DF4-BA31-DF4EA78682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ncing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640" y="1735200"/>
            <a:ext cx="7958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RA Tax on global trade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.35 to .5 percen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x on global financial transfers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.01 to .02 percent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F special drawing rights for developing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30 to 40 billion US$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F072-9FBF-4AD7-878A-2FCED660D5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440" y="1757160"/>
            <a:ext cx="7862760" cy="35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le of empowerment – investment into education and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ing self-determination and entrepreneurial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olvement of civil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articipation of all nations and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ttom Up –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on-si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ntrepreneurial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microcredit banks (such as Grameen Bank)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ment schools (Fundaec / Colomb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eans /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AF40-8171-4E89-AB97-838779AFB3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1757520"/>
            <a:ext cx="78627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pport for those economic sectors most in accordance with development go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ptance of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announcement of support programmes to NG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.g. by an independent agency within IM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-ordination of support programmes via UN organis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rnational research focus on increasing effectivity and effici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eans /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6B0F-1C2E-4C1D-8EAA-BFBA89FCA5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Marshall Plan 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cing our hopes in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39960"/>
            <a:ext cx="7772400" cy="29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U has already called for essential points of the Global Marshall Plan in global negoti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EU should continue to negotiate for the Global Marshall Plan at a global level (UN, WTO, et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principles used in EU enlargement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– democracy, human rights, solidarity, common legal standards in exchange for co-financing – should be applied worldw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0132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3CD5-FE6B-4CA3-BDF6-70E7888D6A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Marshal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65160"/>
            <a:ext cx="777240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Vision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ldwide justi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peace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stainable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Way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partnership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worldwide Eco-social Market Econo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ategy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„win-win situation“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all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2789-DA3F-48DF-AB3A-A97F1B656C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urrent situation -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and 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640" y="2033640"/>
            <a:ext cx="7958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second, a human being dies of malnutrition and related causes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30 million deaths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very 30 seconds, a child di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  of malaria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1 million per ye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ximately 840 million peopl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ffer from starv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roximately 1 billion people ear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ss than 1 US dollar per da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621400" y="3033720"/>
            <a:ext cx="2882880" cy="22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D0C2-E64A-4450-B156-C0D62DA24B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he current situation -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velopment of in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9480" y="2033640"/>
            <a:ext cx="38052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spcAft>
                <a:spcPts val="1925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ap in incomes continues to grow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per capita GNP in 20 poorest vs. 20 richest countries (in US dollars)</a:t>
            </a:r>
            <a:br>
              <a:rPr sz="2200"/>
            </a:br>
            <a:br>
              <a:rPr sz="10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1960-62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12  :  11,417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000-02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267  :  32,33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72160" y="5299200"/>
            <a:ext cx="23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: 53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: 1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6480" y="2106720"/>
            <a:ext cx="3835440" cy="296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7E49-394C-4301-93BF-991A25A51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tructive impact of  “ECONOM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636640"/>
            <a:ext cx="7827840" cy="19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xploitation of humans and nature in poor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petition unfair to regionally anchored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duced financial capacity of municipalities, states, health and social security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4480" y="1828800"/>
            <a:ext cx="750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e-sided profit orientation without social or ecological princi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9E6E-2CA9-4C3D-875B-B2D8CD09C3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60240" y="39204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880" y="1900080"/>
            <a:ext cx="782784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rom a “civilisation of exploitation” to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ivilisation of sustainabil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elopment towards long-term stability</a:t>
            </a:r>
            <a:br>
              <a:rPr sz="2200"/>
            </a:b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ion of an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quitable order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ly interlinked humanit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ir competition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velopment toward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ong-term pe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7D37-E942-4E63-A08E-4755D4C46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f Eco-social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82520" y="1709640"/>
            <a:ext cx="7354800" cy="3082320"/>
            <a:chOff x="1082520" y="1709640"/>
            <a:chExt cx="7354800" cy="3082320"/>
          </a:xfrm>
        </p:grpSpPr>
        <p:sp>
          <p:nvSpPr>
            <p:cNvPr id="97" name=""/>
            <p:cNvSpPr/>
            <p:nvPr/>
          </p:nvSpPr>
          <p:spPr>
            <a:xfrm>
              <a:off x="3216960" y="1709640"/>
              <a:ext cx="2710080" cy="8132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1082520" y="3337200"/>
              <a:ext cx="6978960" cy="813240"/>
              <a:chOff x="1082520" y="3337200"/>
              <a:chExt cx="6978960" cy="813240"/>
            </a:xfrm>
          </p:grpSpPr>
          <p:sp>
            <p:nvSpPr>
              <p:cNvPr id="99" name=""/>
              <p:cNvSpPr/>
              <p:nvPr/>
            </p:nvSpPr>
            <p:spPr>
              <a:xfrm>
                <a:off x="1082520" y="3337200"/>
                <a:ext cx="2710080" cy="813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51400" y="3337200"/>
                <a:ext cx="2710080" cy="8132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  <a:effectLst>
                <a:outerShdw dist="71785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 flipV="1">
              <a:off x="1692720" y="2093760"/>
              <a:ext cx="1422360" cy="115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028200" y="2093760"/>
              <a:ext cx="1422360" cy="115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7600" y="3807720"/>
              <a:ext cx="1287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38000" y="1857600"/>
              <a:ext cx="2013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conom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6400" y="3211200"/>
              <a:ext cx="134316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100" spc="-1" strike="noStrike">
                  <a:solidFill>
                    <a:srgbClr val="000000"/>
                  </a:solidFill>
                  <a:latin typeface="Arial"/>
                </a:rPr>
                <a:t>Peace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09320" y="3445200"/>
              <a:ext cx="176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Ecolog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04400" y="2506680"/>
              <a:ext cx="18201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etitive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53480" y="4150800"/>
              <a:ext cx="1451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abili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cial pe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60240" y="4148280"/>
              <a:ext cx="32770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afeguarding the natural ba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f our liveli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08080" y="5240160"/>
            <a:ext cx="893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oper bal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between the 3 points of the triangle is crucia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B89D-4220-4486-A3F4-ECDA7A497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ECONO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640" y="3043080"/>
            <a:ext cx="795816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search, development, innova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move obstacles to economic performanc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over-regulation, superfluous bureaucrac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 incentives for performanc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rengthen regionally anchored middle-class businesse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0240" y="1743120"/>
            <a:ext cx="789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OAL is a HIGH-PERFORMING, HIGHLY COMPETITIVE ECONOMY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Lisbon Strateg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2893-EB26-4D39-A4B5-A28D71BF4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SOCIAL ASP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720" y="2738520"/>
            <a:ext cx="795816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formance and financial stability of social security and health care system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(broaden the basis of contributions throughout the E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the conditions for familial, community and private care servi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diverse networks of solidar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lobal solidarit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" y="1743120"/>
            <a:ext cx="789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OAL is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ocial fairnes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br>
              <a:rPr sz="2200"/>
            </a:b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locally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lobally,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new imag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83CA-9B78-49F7-824D-DEA205F9C0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0240" y="391680"/>
            <a:ext cx="553896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. EC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2341440"/>
            <a:ext cx="79581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ict responsibility for ecological consequences!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cological truthfulness in prices and costs –– competitive advantages to sustainable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co-social tax reform: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long-term re-organisation of taxation in favour of human beings and of 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hanges to law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administrative guidelines and subsidies in favour of 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trict declaration of product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transparent truth in label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1589040"/>
            <a:ext cx="788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obilisation of market forces towards the goal of sustainabilit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7650-AB79-4A4A-A93F-AEFAE3DBE3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9T22:40:55Z</dcterms:created>
  <dc:creator>KlemensR</dc:creator>
  <dc:description/>
  <dc:language>en-US</dc:language>
  <cp:lastModifiedBy>Bart Soldaat</cp:lastModifiedBy>
  <cp:lastPrinted>2005-07-05T11:10:33Z</cp:lastPrinted>
  <dcterms:modified xsi:type="dcterms:W3CDTF">2006-09-21T09:08:52Z</dcterms:modified>
  <cp:revision>114</cp:revision>
  <dc:subject/>
  <dc:title>Im Spannungsfeld zwischen  Global Marshallplan, MBO und Konsumkultur</dc:title>
</cp:coreProperties>
</file>