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6595-3356-42C2-8713-88CE4F41B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77724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404520"/>
            <a:ext cx="77724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64CB-61BC-4552-A59A-A139784A9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1275-7ABE-4707-8AF2-27574D5C9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4916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4916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40452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40452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40452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C327-CE2F-4BFC-AE44-2D706453D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49160"/>
            <a:ext cx="777240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77724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60240" y="391680"/>
            <a:ext cx="55389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49160"/>
            <a:ext cx="777240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267F-1052-4618-9F30-7A41E20B7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404520"/>
            <a:ext cx="77724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77724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404520"/>
            <a:ext cx="77724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4916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4916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40452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40452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40452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77724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25EC-3C18-4A4E-9CD2-5502394A9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112E-4709-42F5-874B-4B936962D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D414-41C9-4BDA-8E76-21F5D08FA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60240" y="391680"/>
            <a:ext cx="55389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8123-F185-4420-8E68-BEEF46189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5666-E548-4F4A-BDDC-1590DD87A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E556-53E4-4C4E-A9DD-BA4D6364D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404520"/>
            <a:ext cx="77724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BC02-B5C8-4360-A930-21981B4EF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49160"/>
            <a:ext cx="77724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8400" y="6114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C9E5-195D-4A6B-8BB6-989A5FB641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497640" y="399960"/>
            <a:ext cx="197964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47640" y="1371600"/>
            <a:ext cx="7824960" cy="144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230960" y="5881680"/>
            <a:ext cx="122580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93480"/>
            <a:ext cx="7772400" cy="21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5110200"/>
            <a:ext cx="8172720" cy="122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65960" y="415800"/>
            <a:ext cx="1982880" cy="884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" y="1324080"/>
            <a:ext cx="7739280" cy="1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8160" y="2506680"/>
            <a:ext cx="733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Global Marshall Plan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or a worldwide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co-social Market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C7CC-D0A4-443C-988D-1EBAEF9DB8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wide Eco-social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040" y="1654200"/>
            <a:ext cx="8026200" cy="32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onomy, ecology, social needs and cultural identity as goals of equal priority and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6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lusion of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cological, social and procedural standards into WTO, IMF, World Bank, ILO, UNEP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6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ir rules for global financi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6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ir and comparable taxation systems 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B94E-9A74-40A2-A153-A0064D28B7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61528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Marshall Plan for a world-wide Eco-social Market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9520"/>
            <a:ext cx="7772400" cy="35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 Win-win Strategy in the sense of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Economy Programm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Fair development opportunities for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ancing for the Millennium Development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Fair market economy for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inding standards – (co-)financing – market ope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Global economic miracle”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growth spurt through impulses to investment and increased purchasing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0C89-A7B5-4457-9894-DCA4EB83DC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0240" y="393840"/>
            <a:ext cx="5538960" cy="89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Marshall Plan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64840"/>
            <a:ext cx="7772400" cy="46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New sources of financ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utside national budg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Global Gover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linking international institution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UN, WTO, WB, IM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lementation of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ocial and ecological standards (e.g. ILO, UNEP…) i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obal agreements with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qually binding fo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Distribution of means tied to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ottom-up” principle (e.g. microcredit banks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adual acceptance of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ansparency and accoun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30D1-10CF-4A87-B4EE-E81B760E33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obal Marshall Plan 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640" y="1735200"/>
            <a:ext cx="7958160" cy="43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cided in 2000 – Aims for 2015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lving the number of people with an income of ≤ 1 US dollar per day (currently ca. 1 bill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ementary education for every chi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qual treatment and greater influence of w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duction of infant mortality by 2/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roved health conditions for m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end reversal in infection rates of HIV/AIDS, malaria et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stainable environmental conditions (e.g. water suppl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w form of partnership for development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orld economy under suitable framework cond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C20B-BC32-452B-9D27-01F820EF59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Marshall Plan 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n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640" y="1735200"/>
            <a:ext cx="7958160" cy="38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taining the Millennium Development Goals will require  an additional</a:t>
            </a:r>
            <a:br>
              <a:rPr sz="2200"/>
            </a:br>
            <a:br>
              <a:rPr sz="2200"/>
            </a:b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a. 120 billion US dollars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0.4 % of World GNP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om 2008 onwards (2008 to 2015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otal, this equals ca.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960 billion US dollar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UN Zedillo Report; White Paper by Gordon Brown (UK Chancellor of the Exchequer);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rge So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D620-350D-4C70-9261-764B19E4FE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Marshall Plan 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ncing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640" y="1735200"/>
            <a:ext cx="7958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RRA Tax on global trade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.35 to .5 percent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0 to 40 billion US$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x on global financial transfers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.01 to .02 percent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0 to 40 billion US$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F special drawing rights for developing cou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0 to 40 billion US$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CDBE-034D-42F0-AAD2-5E612B7FC3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440" y="1757160"/>
            <a:ext cx="7862760" cy="35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ciple of empowerment – investment into education and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ing self-determination and entrepreneurial 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olvement of civil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ticipation of all nations and 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ottom Up 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on-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ntrepreneurial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microcredit banks (such as Grameen Bank)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ment schools (Fundaec / Colomb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Marshall Pla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eans /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BEFA-23B4-442E-A73F-E098FEDFE2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757520"/>
            <a:ext cx="7862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for those economic sectors most in accordance with development g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eptance of stand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announcement of support programmes to NG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by an independent agency within IM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-ordination of support programmes via UN organis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national research focus on increasing effectivity and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Marshall Pla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eans /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4F3A-BA87-469D-BD87-670F00DF29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Marshall Plan 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cing our hopes in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39960"/>
            <a:ext cx="7772400" cy="29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U has already called for essential points of the Global Marshall Plan in global negotia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U should continue to negotiate for the Global Marshall Plan at a global level (UN, WTO, et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rinciples used in EU enlargement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democracy, human rights, solidarity, common legal standards in exchange for co-financing – should be applied worldw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20132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DE3B-95E1-45B2-9954-D7C477E91A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Marshal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65160"/>
            <a:ext cx="777240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Vision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orldwide justi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peace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stainable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ay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lobal partnership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orldwide Eco-social Market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trategy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„win-win situation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or all par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E276-B41F-4D62-B0D6-46B9017B0D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urrent situation -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verty and hu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640" y="2033640"/>
            <a:ext cx="7958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Aft>
                <a:spcPts val="1925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ry second, a human being dies of malnutrition and related causes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30 million deaths per y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Aft>
                <a:spcPts val="1925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ry 30 seconds, a child di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of malaria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1 million per y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Aft>
                <a:spcPts val="1925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roximately 840 million peopl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ffer from starv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Aft>
                <a:spcPts val="1925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roximately 1 billion people ear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ss than 1 US dollar per da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621400" y="3033720"/>
            <a:ext cx="2882880" cy="22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40E4-984D-495C-806B-524D0AEB3B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current situation -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velopment of in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9480" y="2033640"/>
            <a:ext cx="38052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Aft>
                <a:spcPts val="1925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ap in incomes continues to grow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per capita GNP in 20 poorest vs. 20 richest countries (in US dollars)</a:t>
            </a:r>
            <a:br>
              <a:rPr sz="2200"/>
            </a:br>
            <a:br>
              <a:rPr sz="10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1960-62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12  :  11,417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00-02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67  :  32,33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72160" y="5299200"/>
            <a:ext cx="23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: 53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: 12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6480" y="2106720"/>
            <a:ext cx="3835440" cy="296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71B4-0B3A-4E75-865C-69AE21A097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tructive impact of  “ECONOM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636640"/>
            <a:ext cx="782784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ploitation of humans and nature in poor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etition unfair to regionally anchored busin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duced financial capacity of municipalities, states, health and social security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4480" y="1828800"/>
            <a:ext cx="750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ne-sided profit orientation without social or ecological princi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0A52-93E9-4EF5-85AC-15110D724F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880" y="1900080"/>
            <a:ext cx="782784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rom a “civilisation of exploitation” to 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ivilisation of sustainabilit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velopment towards long-term stability</a:t>
            </a: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ion of an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quitable ord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ly interlinked humanit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ir competition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velopment toward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ong-term pe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2D0D-51F1-4ED8-8682-244E230FE6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of Eco-social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82520" y="1709640"/>
            <a:ext cx="7354800" cy="3082320"/>
            <a:chOff x="1082520" y="1709640"/>
            <a:chExt cx="7354800" cy="3082320"/>
          </a:xfrm>
        </p:grpSpPr>
        <p:sp>
          <p:nvSpPr>
            <p:cNvPr id="97" name=""/>
            <p:cNvSpPr/>
            <p:nvPr/>
          </p:nvSpPr>
          <p:spPr>
            <a:xfrm>
              <a:off x="3216960" y="1709640"/>
              <a:ext cx="2710080" cy="8132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082520" y="3337200"/>
              <a:ext cx="6978960" cy="813240"/>
              <a:chOff x="1082520" y="3337200"/>
              <a:chExt cx="6978960" cy="813240"/>
            </a:xfrm>
          </p:grpSpPr>
          <p:sp>
            <p:nvSpPr>
              <p:cNvPr id="99" name=""/>
              <p:cNvSpPr/>
              <p:nvPr/>
            </p:nvSpPr>
            <p:spPr>
              <a:xfrm>
                <a:off x="1082520" y="3337200"/>
                <a:ext cx="2710080" cy="81324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51400" y="3337200"/>
                <a:ext cx="2710080" cy="81324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V="1">
              <a:off x="1692720" y="2093760"/>
              <a:ext cx="1422360" cy="115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6028200" y="2093760"/>
              <a:ext cx="1422360" cy="115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7600" y="3807720"/>
              <a:ext cx="1287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38000" y="1857600"/>
              <a:ext cx="201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Econom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96400" y="3211200"/>
              <a:ext cx="134316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1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100" spc="-1" strike="noStrike">
                  <a:solidFill>
                    <a:srgbClr val="000000"/>
                  </a:solidFill>
                  <a:latin typeface="Arial"/>
                </a:rPr>
                <a:t>Peace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09320" y="3445200"/>
              <a:ext cx="1765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Ecolog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04400" y="2506680"/>
              <a:ext cx="18201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mpetitive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53480" y="4150800"/>
              <a:ext cx="1451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abili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ocial pe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60240" y="4148280"/>
              <a:ext cx="32770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afeguarding the natural ba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our liveliho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08080" y="5240160"/>
            <a:ext cx="893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per bal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tween the 3 points of the triangle is crucia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5525-7BDA-4B6B-9E55-E9BE0A819C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 ECONO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640" y="3043080"/>
            <a:ext cx="795816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earch, development, innova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move obstacles to economic performanc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over-regulation, superfluous bureaucracy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incentives for performanc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 regionally anchored middle-class businesse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0240" y="1743120"/>
            <a:ext cx="789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GOAL is a HIGH-PERFORMING, HIGHLY COMPETITIVE ECONOMY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Lisbon Strateg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3F60-B898-46AD-93C7-3451E1367B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 SOCIAL ASP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720" y="2738520"/>
            <a:ext cx="795816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formance and financial stability of social security and health care system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broaden the basis of contributions throughout the E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the conditions for familial, community and private care servi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diverse networks of solidar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lobal solidarity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0240" y="1743120"/>
            <a:ext cx="789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GOAL is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ocial fairness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br>
              <a:rPr sz="2200"/>
            </a:b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locally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globally,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new imagin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F999-B631-46FA-8D6F-227EDE98A2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 EC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9280" y="2341440"/>
            <a:ext cx="795816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trict responsibility for ecological consequences!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cological truthfulness in prices and costs –– competitive advantages to sustainable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co-social tax reform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long-term re-organisation of taxation in favour of human beings and of sustain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hanges to law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administrative guidelines and subsidies in favour of sustain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trict declaration of product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transparent truth in label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1589040"/>
            <a:ext cx="788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obilisation of market forces towards the goal of sustainability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6636-1990-4F80-A909-2CA8243340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22:40:55Z</dcterms:created>
  <dc:creator>KlemensR</dc:creator>
  <dc:description/>
  <dc:language>en-US</dc:language>
  <cp:lastModifiedBy>Bart Soldaat</cp:lastModifiedBy>
  <cp:lastPrinted>2005-07-05T11:10:33Z</cp:lastPrinted>
  <dcterms:modified xsi:type="dcterms:W3CDTF">2006-09-21T09:08:52Z</dcterms:modified>
  <cp:revision>114</cp:revision>
  <dc:subject/>
  <dc:title>Im Spannungsfeld zwischen  Global Marshallplan, MBO und Konsumkultur</dc:title>
</cp:coreProperties>
</file>