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587B-A649-4875-8356-2E6949D372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C74A-FBE7-4D9F-901E-F26610948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C111-6A67-4C5C-9010-C8284A2EF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8BC-20E7-4A43-ADC7-B87FF275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2E5-5E7A-4AB0-A4CA-26285063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D71-D41A-4A8B-A629-1CD242E4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977-099F-4CAB-A145-0E40CB3D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5C0-3A26-4266-904A-6710AD17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061-1951-4E12-A965-A8C785FE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0BF-DC08-4FEA-A924-49841EFF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4AC-D7C4-4445-A1D4-29F9F074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B23-AC8C-43CE-847C-DC331DA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2AB-169F-44A2-887F-0F0B839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152-852E-440A-A4ED-464CFAD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10B-6947-4063-B028-08A2637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D85-C1C8-4809-B751-E7D4724C0FBD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4CC2-CE9C-4C39-805E-4F5D5E92400F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DGAGRI-signature-black-text-EN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2c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851026377_bf871ff1dc_o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8667720" cy="650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G-AGRI-mask-cover.png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5" name="Title 5"/>
          <p:cNvSpPr/>
          <p:nvPr/>
        </p:nvSpPr>
        <p:spPr>
          <a:xfrm>
            <a:off x="0" y="1252440"/>
            <a:ext cx="9144000" cy="2320920"/>
          </a:xfrm>
          <a:prstGeom prst="rect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16200000">
            <a:off x="8174520" y="5547600"/>
            <a:ext cx="1432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Ⓒ </a:t>
            </a: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Olof 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DGAGRI-signature-EN.png"/>
          <p:cNvPicPr/>
          <p:nvPr/>
        </p:nvPicPr>
        <p:blipFill>
          <a:blip r:embed="rId4"/>
          <a:stretch/>
        </p:blipFill>
        <p:spPr>
          <a:xfrm>
            <a:off x="468360" y="6013440"/>
            <a:ext cx="1638360" cy="368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918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s to CSF and partnership Contracts </a:t>
            </a:r>
            <a:br>
              <a:rPr sz="3200"/>
            </a:b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6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Access to EAFR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upport to stakeholders for submitting project applications and implementing/managing projects i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Self-employment, entrepreneurship and business cre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 strategy for inclusive start-up support is available, including measures to reduce time and costs for business set-up, measures to reduce timing for getting licences and permits and taking-up/performing specific activities, and actions linking business development services and financi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NGA infrastructure (Next Generation Access Network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ational NGA plan is in place, containing a plan of infrastructure investments, sustainable investment models and measures to stimulate private inve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Horizontal conditions for several prioriti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Member States administrative efficienc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trategy for reinforcing MS administrative efficiency is in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Human resources alloca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description of human resources allocation, training management and IT systems within managing Authorities which demonstrates sufficient capacity in human resources is included in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Selection criter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description of approach to the setting of selection criteria for projects and local development which demonstrates its appropriateness is included in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General conditions applying to all CSF Funds (Annex IV CSF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Anti-discrimina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and application of directive 2000/78/EC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Gender equa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an explicit strategy for the promotion of gender equality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Disabil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UN Convention on the rights of persons with disabilities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Public procur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directives 2004/18/EC and 2004/17/EC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State ai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mplementation and application of state aid law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Environmental legisl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EIA &amp; SEA): implementation and application of EAI and SEA directives is ensur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Statistical system and result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 multi-annual plan for timely collection and aggregation of data is in place [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mmon result indicators are defined for the RD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Performance reserve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s 18-20 and Annex 1 of CSF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reserve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the EAFRD in each Member State will be set aside at the beginning of the programming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framework: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quantified target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milestones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for RD priorities to be included in RDP on the basis of a common set of indicator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stones established for each priority for the years 2016 and 20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rgets established for 2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erformance review: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 review of programme performance will be undertaken by the Commission in collaboration with the Member States in 2017 and 2019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2017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sessment of progress against milestones (based on financial and output indicators) – Commission can make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2019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sessment of progress against milestones (may also include result indicators) for the purpose of allocating the performanc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formance reserve to be allocated to those programmes, or priorities within programmes, that have met their milestones (Commission deci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rther financial sanctions possible in cases of major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68360" y="1197000"/>
            <a:ext cx="410364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a)(i): analysis of disparities and development needs in relation to CSF Thematic Objectives (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ii): summary analysis of ex-an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a)(iii): summary of main results expected per TO and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iv): indicative national allocations per TO and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): main priority areas for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i): horizontal principles and policy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a)(vii): list of programmes per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643280" y="1484280"/>
            <a:ext cx="3961080" cy="47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b): SWO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a): ex-ant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c): target setting per focu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i)(i): total Union contribution planned (financial pl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ist of regional programmes where relevan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68360" y="1197000"/>
            <a:ext cx="4103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b)(i): mechanisms ensuring coordination between CSF Funds and other Union/national policies and the E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b)(ii): arrangements for integrated approach for the use of CSF Funds for territorial development of urban, rural, coastal and fisheries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c): integrated approach to address specific needs of particular areas/target groups (poverty, risk of discrimination/exclusion, marginalised communiti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788000" y="1341360"/>
            <a:ext cx="39607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m): focus on coordination first – second pi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f): focus on coordination for implementation arrangements for LEADER projects in rural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b) : SWOT analysis (in particular as regards Priority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Correspondance between PC and RDP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4500720" y="765000"/>
            <a:ext cx="7128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468360" y="476280"/>
            <a:ext cx="3672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tnership Contract (Art. 14 CSF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4932360" y="476280"/>
            <a:ext cx="3887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ral development programmes (Art. 9 RD Reg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468360" y="1268280"/>
            <a:ext cx="41036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): table on milestones &amp;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i): summary assessment ex-ante conditi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ii): compliance with rules of addi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d)(iv): actions to involve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e)(i): assessment of needs to reinforce capacities of authorities, beneficiaries and actions to b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(e)(ii): actions planned for reducing admin burden for benefici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(e)(iii): assessment of electronic data exchang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859280" y="1557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88000" y="1341360"/>
            <a:ext cx="410508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d): mile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d): ex-ante condition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specific for 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1)(o): designation of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nnex IV: ex-ante conditionality (HC1) on MS administrative efficienc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(c)(v): action to simplify implementation of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rticle 77: electronic information system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3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B130-D36C-4EBF-816C-4312711E6E66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33BA-47DC-438B-91CD-C1DFA64DBB6A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84C7-2A61-4F6F-84C0-B0942990CC8C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648D-CC20-4DDA-AA4C-F860BB13F756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E182-1B9C-44BC-8B51-C807035D0C3F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684360" y="1700280"/>
            <a:ext cx="7775280" cy="792000"/>
          </a:xfrm>
          <a:prstGeom prst="flowChartProcess">
            <a:avLst/>
          </a:prstGeom>
          <a:solidFill>
            <a:srgbClr val="0099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mmon Strategic Framework (CSF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vering the EAFRD, ERDF, ESF, Cohesion Fund and EMFF (the “CSF Funds”) , and reflec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U2020 through common thematic objectives to be addressed by key actions for each of the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4360" y="2852640"/>
            <a:ext cx="7775280" cy="79236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nership Contr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national document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lining the intended use of the funds in the pursuit of EU2020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84360" y="4076640"/>
            <a:ext cx="2663640" cy="719280"/>
          </a:xfrm>
          <a:prstGeom prst="rect">
            <a:avLst/>
          </a:prstGeom>
          <a:solidFill>
            <a:srgbClr val="00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r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licy: EAF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564000" y="4076640"/>
            <a:ext cx="4895640" cy="719280"/>
          </a:xfrm>
          <a:prstGeom prst="rect">
            <a:avLst/>
          </a:prstGeom>
          <a:solidFill>
            <a:srgbClr val="0099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ther CSF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DF, ESF, CF, EMF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1280" y="5229360"/>
            <a:ext cx="7920000" cy="647640"/>
          </a:xfrm>
          <a:prstGeom prst="rect">
            <a:avLst/>
          </a:prstGeom>
          <a:solidFill>
            <a:srgbClr val="0099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ural Development Programm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- Structured around six priorities for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684360" y="620640"/>
            <a:ext cx="7775280" cy="720720"/>
          </a:xfrm>
          <a:prstGeom prst="flowChartProcess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urope 2020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- Defines headline targets to be achieved by the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284720" y="1341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284720" y="2492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1763640" y="479736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Connettore 2 19"/>
          <p:cNvCxnSpPr/>
          <p:nvPr/>
        </p:nvCxnSpPr>
        <p:spPr>
          <a:xfrm flipH="1">
            <a:off x="2626920" y="3716280"/>
            <a:ext cx="432720" cy="362520"/>
          </a:xfrm>
          <a:prstGeom prst="straightConnector1">
            <a:avLst/>
          </a:prstGeom>
          <a:ln w="507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cxnSp>
        <p:nvCxnSpPr>
          <p:cNvPr id="107" name="Connettore 2 22"/>
          <p:cNvCxnSpPr/>
          <p:nvPr/>
        </p:nvCxnSpPr>
        <p:spPr>
          <a:xfrm>
            <a:off x="3779640" y="3716280"/>
            <a:ext cx="432360" cy="362520"/>
          </a:xfrm>
          <a:prstGeom prst="straightConnector1">
            <a:avLst/>
          </a:prstGeom>
          <a:ln w="50760">
            <a:solidFill>
              <a:srgbClr val="000066"/>
            </a:solidFill>
            <a:prstDash val="sysDot"/>
            <a:miter/>
            <a:tailEnd len="med" type="triangle" w="med"/>
          </a:ln>
        </p:spPr>
      </p:cxnSp>
      <p:sp>
        <p:nvSpPr>
          <p:cNvPr id="108" name="Text Box 6"/>
          <p:cNvSpPr/>
          <p:nvPr/>
        </p:nvSpPr>
        <p:spPr>
          <a:xfrm>
            <a:off x="6659640" y="11592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333399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The Common Strategic Framework (CSF)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 17 CSF Funds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EU strategic document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: replaces Community strategic guidelines for rural develop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nsures a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oncentrated ac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oordination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of the CSF funds to 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translate the EU2020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objectives and targets into key 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atic obje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ac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be supported by each CSF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ke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ritorial challen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urban, rural, coastal and fisheries areas and areas with particular territori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bes horizontal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l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dentifies priority areas for cooperation activities for the CFS Funds (where relev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line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ordination mechanis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tween CSF Funds and other Union instruments/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s for the mechanisms for ensuring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herence and consistency with economic polici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the Un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68360" y="836640"/>
            <a:ext cx="792000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95280" y="1484280"/>
            <a:ext cx="244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RD Focus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2916360" y="1773360"/>
            <a:ext cx="2016000" cy="503280"/>
          </a:xfrm>
          <a:prstGeom prst="rightArrow">
            <a:avLst>
              <a:gd name="adj1" fmla="val 50000"/>
              <a:gd name="adj2" fmla="val 100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2987640" y="1484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8360" y="1484280"/>
            <a:ext cx="208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SF Themat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2349360"/>
            <a:ext cx="2448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a) better integrating primary producers into the food chain through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chemes, promotion in local markets and short supply circuits, produ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oups and inter-branch organis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5084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(b) Supporting farm ris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588000" y="198900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under supported quality production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2843280" y="3141720"/>
            <a:ext cx="64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5867280" y="2492280"/>
            <a:ext cx="792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>
            <a:off x="2916360" y="537372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4"/>
          <p:cNvSpPr/>
          <p:nvPr/>
        </p:nvSpPr>
        <p:spPr>
          <a:xfrm>
            <a:off x="5867280" y="530064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659640" y="4653000"/>
            <a:ext cx="1944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Agricultural output under RDP-supported risk management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659640" y="278136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sold via short marketing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5867280" y="314172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732720" y="3645000"/>
            <a:ext cx="208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ricultural output sold via Producer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5867280" y="3141720"/>
            <a:ext cx="936720" cy="71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39640" y="836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3: Promoting food chain organisation and risk management in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492360" y="263700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Enhancing the competitiveness of SMEs, the agricultural sector and fisheries and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492360" y="4797360"/>
            <a:ext cx="23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Enhancing the competitiveness of SMEs, the agricultural sector and fisheries and aqua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300720" y="1484280"/>
            <a:ext cx="2664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utcomes (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48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Correspondence between RD priorities and CSF Thematic Objective: an example (priority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468360" y="692280"/>
            <a:ext cx="7920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5: Promoting resource efficiency and supporting the shift towards a low carbon and climate resilient economy in agriculture, food and forestry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5300640"/>
            <a:ext cx="259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(e) fostering carbon sequestration in agriculture and fore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95280" y="1341360"/>
            <a:ext cx="2448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RD Focus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2916360" y="1773360"/>
            <a:ext cx="2016000" cy="503280"/>
          </a:xfrm>
          <a:prstGeom prst="rightArrow">
            <a:avLst>
              <a:gd name="adj1" fmla="val 50000"/>
              <a:gd name="adj2" fmla="val 1001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987640" y="1484280"/>
            <a:ext cx="2232000" cy="576360"/>
          </a:xfrm>
          <a:prstGeom prst="rightArrow">
            <a:avLst>
              <a:gd name="adj1" fmla="val 50000"/>
              <a:gd name="adj2" fmla="val 9681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564000" y="1341360"/>
            <a:ext cx="2376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SF Thematic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1700280"/>
            <a:ext cx="24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) increasing efficiency in water use by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348000" y="1700280"/>
            <a:ext cx="26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Protecting the environment and promoting resource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250920" y="2421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(b) increasing efficiency in energy use in agriculture and food proces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24000" y="3213000"/>
            <a:ext cx="28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66"/>
                </a:solidFill>
                <a:latin typeface="Arial"/>
              </a:rPr>
              <a:t>(c) facilitating the supply and use of renewable sources of energy, of by-products, wastes, residues and other non food raw material for purposes of the bio-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24000" y="458136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(d) reducing nitrous oxide and methane emissions from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6516720" y="177336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Water savings in agri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700360" y="1989000"/>
            <a:ext cx="649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5940360" y="198900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916360" y="278136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5867280" y="2781360"/>
            <a:ext cx="720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6588000" y="242100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</a:rPr>
              <a:t>Energy savings in the agricultural and food-processing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3780000" y="35002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3059280" y="3716280"/>
            <a:ext cx="647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5867280" y="3860640"/>
            <a:ext cx="7207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588000" y="3645000"/>
            <a:ext cx="19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9900"/>
                </a:solidFill>
                <a:latin typeface="Arial"/>
              </a:rPr>
              <a:t>Renewable energy produ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732720" y="450864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Reduction of CO2 equivalent e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659640" y="5229360"/>
            <a:ext cx="223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33cc"/>
                </a:solidFill>
                <a:latin typeface="Arial"/>
              </a:rPr>
              <a:t>UAA under management contracts contributing to carbon seque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298764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5940360" y="486900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2916360" y="5589720"/>
            <a:ext cx="647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940360" y="5661000"/>
            <a:ext cx="6476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780000" y="249228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3851280" y="4508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3851280" y="530064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Supporting the shift towards a low-carbon economy in all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227640" y="1341360"/>
            <a:ext cx="26640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utcomes (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348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Correspondence between RD priorities and CSF Thematic Objective: an example (priority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numéro de diapositive 3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026-029C-4A4E-A4A4-5C99A3405A55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95280" y="907920"/>
            <a:ext cx="792000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5: Promoting resource efficiency and supporting the shift towards a low carbon and climate resilient economy in agriculture, food and forestry se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50920" y="189000"/>
            <a:ext cx="8713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Priorities and grouping of measures (an exa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2"/>
          <p:cNvSpPr/>
          <p:nvPr/>
        </p:nvSpPr>
        <p:spPr>
          <a:xfrm>
            <a:off x="2700360" y="2205000"/>
            <a:ext cx="3600360" cy="216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s in physic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 and business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llage renewal and basic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owledge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visor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s in forest area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-operation (new technolog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4643280" y="1628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924360" y="1700280"/>
            <a:ext cx="41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ing of relevant measures (indicative list in Annex 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324000" y="191628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ocus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995640" y="5877000"/>
            <a:ext cx="194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8"/>
          <p:cNvSpPr/>
          <p:nvPr/>
        </p:nvSpPr>
        <p:spPr>
          <a:xfrm>
            <a:off x="6732720" y="2492280"/>
            <a:ext cx="1728720" cy="15130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dicative list of relev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perations to be suppo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Eligibility ru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- Aid-intensit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eneficia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ndicative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 conditions, et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6659640" y="2060640"/>
            <a:ext cx="17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easure details (ex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2"/>
          <p:cNvSpPr/>
          <p:nvPr/>
        </p:nvSpPr>
        <p:spPr>
          <a:xfrm>
            <a:off x="6300720" y="3068640"/>
            <a:ext cx="432000" cy="144360"/>
          </a:xfrm>
          <a:prstGeom prst="leftRightArrow">
            <a:avLst>
              <a:gd name="adj1" fmla="val 50000"/>
              <a:gd name="adj2" fmla="val 595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3"/>
          <p:cNvSpPr/>
          <p:nvPr/>
        </p:nvSpPr>
        <p:spPr>
          <a:xfrm>
            <a:off x="1116000" y="1484280"/>
            <a:ext cx="125280" cy="432000"/>
          </a:xfrm>
          <a:prstGeom prst="upDownArrow">
            <a:avLst>
              <a:gd name="adj1" fmla="val 50000"/>
              <a:gd name="adj2" fmla="val 6864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5"/>
          <p:cNvSpPr/>
          <p:nvPr/>
        </p:nvSpPr>
        <p:spPr>
          <a:xfrm>
            <a:off x="395280" y="2276640"/>
            <a:ext cx="1728720" cy="287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fficiency in water 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6"/>
          <p:cNvSpPr/>
          <p:nvPr/>
        </p:nvSpPr>
        <p:spPr>
          <a:xfrm>
            <a:off x="395280" y="2708280"/>
            <a:ext cx="1728720" cy="287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fficiency in energy 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7"/>
          <p:cNvSpPr/>
          <p:nvPr/>
        </p:nvSpPr>
        <p:spPr>
          <a:xfrm>
            <a:off x="395280" y="314172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upply and use o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9"/>
          <p:cNvSpPr/>
          <p:nvPr/>
        </p:nvSpPr>
        <p:spPr>
          <a:xfrm>
            <a:off x="395280" y="364500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ducing nitrous oxid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&amp; methane e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395280" y="4149720"/>
            <a:ext cx="1728720" cy="36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arbon sequest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2124000" y="2349360"/>
            <a:ext cx="503280" cy="19432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(Article 17 CSF Funds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Represent essential requirements to ensure that the necessary conditions for the effective use of Union support is in pl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definition of GAEC for AEC commi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o be fulfilled by Member States before the start of the programmes, or early on during implementation of the programme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d-specific ex-ante conditionalities (Annex IV RD Regul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ex-ante conditionalities: common to all the CSF Funds (Annex IV CSF Funds Regulatio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ssion to assess information on fulfillment of ex-ante conditiona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States to provide action plan on fulfilling ex-ante conditionalities unmet when Partnership Contract 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action plan should contain: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00280" indent="-3430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ailed actions relating to the fulfilment of ex-ante condition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table for their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ority 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Research &amp; Innov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national/regional strategy for smart specialisation; national framework with budgetary resources for R&amp;D; national action plan for budgeting and prioritization of invest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Advisory capac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description of structure of regional/national advisory services to serve the RD pri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ority 2 &amp; 3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99ff"/>
                </a:solidFill>
                <a:latin typeface="Arial"/>
              </a:rPr>
              <a:t>Business set-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specific actions in place for implementing the « Small Business Ac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99"/>
                </a:solidFill>
                <a:latin typeface="Arial"/>
              </a:rPr>
              <a:t>Ex-Ante Conditionalities</a:t>
            </a:r>
            <a:br>
              <a:rPr sz="2800"/>
            </a:b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D specific conditions (Annex IV RD Regulation)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4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GA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standards defined in law and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Minimum requirements for fertilisers and plant protec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o be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Other relevant national standard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to be specified in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Risk preventi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ational risk assessment for disaster management is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iority 5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GHG emission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report on adopted national policies to reduce GHG emissions is submitted to the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Energy efficienc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Energy Efficiency Action Plan detailing measures targeting energy savings is submitted to the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Water pricing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existence of water pricing policy respecting the principle of recovery of costs of water services, based on relevant economic analysis by relevant 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Waste management plans (WMP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one or more WMP are establ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99ff"/>
                </a:solidFill>
                <a:latin typeface="Arial"/>
              </a:rPr>
              <a:t>Renewable energ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a national renewable energy action plan is adop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5:29:45Z</dcterms:created>
  <dc:creator>folkecn</dc:creator>
  <dc:description/>
  <dc:language>en-US</dc:language>
  <cp:lastModifiedBy>huub kwantes</cp:lastModifiedBy>
  <dcterms:modified xsi:type="dcterms:W3CDTF">2012-02-28T10:20:28Z</dcterms:modified>
  <cp:revision>7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 by">
    <vt:lpwstr>agri-publications@ec.europa.eu</vt:lpwstr>
  </property>
</Properties>
</file>