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D9E-24B4-4173-B3DD-9BC6802014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011B-5B84-4AE7-AB3F-83E310EC4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1057-2ACF-4B6B-B412-657EAFCAA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A68-3EA6-4EE6-8CDD-C0B2E885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EEA-B3D5-4260-9273-E92B295E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682-2705-4A9E-ADB6-09E0FC2F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343-3EFA-4F6C-B495-5DD640E9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4E6-1788-4BE8-84E9-808DBC22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624-4B57-4C7B-886B-E75F354C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5A2-A169-419F-BEE1-12E86AED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160-CCEB-4C86-B5DF-58ED6D37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894-D8B7-46DC-9B01-DDCDE415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2D5-8ADB-4EAB-8B02-B79EFD1E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FD1-007F-4E97-83D2-A8551C80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502-9D1F-455A-B4EE-A8C0BFD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4C78-631D-4D7A-B686-BFFDDF7DF391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6A95-DDF6-4924-87EB-19946D98A392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851026377_bf871ff1dc_o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50920" y="189000"/>
            <a:ext cx="8667720" cy="6502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G-AGRI-mask-cover.png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5" name="Title 5"/>
          <p:cNvSpPr/>
          <p:nvPr/>
        </p:nvSpPr>
        <p:spPr>
          <a:xfrm>
            <a:off x="0" y="1252440"/>
            <a:ext cx="9144000" cy="2320920"/>
          </a:xfrm>
          <a:prstGeom prst="rect">
            <a:avLst/>
          </a:prstGeom>
          <a:solidFill>
            <a:srgbClr val="0d0d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 rot="16200000">
            <a:off x="8174520" y="5547600"/>
            <a:ext cx="1432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808080"/>
                </a:solidFill>
                <a:latin typeface="Arial"/>
                <a:ea typeface="Arial Unicode MS"/>
              </a:rPr>
              <a:t>Ⓒ </a:t>
            </a:r>
            <a:r>
              <a:rPr b="1" lang="en-GB" sz="600" spc="-1" strike="noStrike">
                <a:solidFill>
                  <a:srgbClr val="808080"/>
                </a:solidFill>
                <a:latin typeface="Arial"/>
                <a:ea typeface="Arial Unicode MS"/>
              </a:rPr>
              <a:t>Olof 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DGAGRI-signature-EN.png"/>
          <p:cNvPicPr/>
          <p:nvPr/>
        </p:nvPicPr>
        <p:blipFill>
          <a:blip r:embed="rId4"/>
          <a:stretch/>
        </p:blipFill>
        <p:spPr>
          <a:xfrm>
            <a:off x="468360" y="6013440"/>
            <a:ext cx="1638360" cy="368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79400"/>
            <a:ext cx="7918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1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s to CSF and partnership Contracts </a:t>
            </a:r>
            <a:br>
              <a:rPr sz="3200"/>
            </a:b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x-Ante Conditionalities</a:t>
            </a:r>
            <a:br>
              <a:rPr sz="28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D specific conditions (Annex IV RD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iority 6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Access to EAFR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support to stakeholders for submitting project applications and implementing/managing projects i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Self-employment, entrepreneurship and business cre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a strategy for inclusive start-up support is available, including measures to reduce time and costs for business set-up, measures to reduce timing for getting licences and permits and taking-up/performing specific activities, and actions linking business development services and financia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NGA infrastructure (Next Generation Access Network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national NGA plan is in place, containing a plan of infrastructure investments, sustainable investment models and measures to stimulate private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Horizontal conditions for several prioriti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Member States administrative efficienc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strategy for reinforcing MS administrative efficiency is in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Human resources alloc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description of human resources allocation, training management and IT systems within managing Authorities which demonstrates sufficient capacity in human resources is included in th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Selection criter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description of approach to the setting of selection criteria for projects and local development which demonstrates its appropriateness is included in th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x-Ante Conditionalities</a:t>
            </a:r>
            <a:br>
              <a:rPr sz="28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General conditions applying to all CSF Funds (Annex IV CSF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Anti-discrimination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and application of directive 2000/78/EC is ensu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Gender equ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mplementation and application of an explicit strategy for the promotion of gender equality is ensu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Dis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mplementation and application of UN Convention on the rights of persons with disabilities is ensu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Public procur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mplementation and application of directives 2004/18/EC and 2004/17/EC is ensu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State a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mplementation and application of state aid law is ensu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Environmental legisl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EIA &amp; SEA): implementation and application of EAI and SEA directives is ensu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Statistical system and result indicato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multi-annual plan for timely collection and aggregation of data is in place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mmon result indicators are defined for the RD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Performance reserve</a:t>
            </a:r>
            <a:br>
              <a:rPr sz="28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Articles 18-20 and Annex 1 of CSF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erformance reserve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the EAFRD in each Member State will be set aside at the beginning of the programming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erformance framework: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quantified targets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milestones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for RD priorities to be included in RDP on the basis of a common set of indicato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stones established for each priority for the years 2016 and 201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s established for 2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erformance review: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a review of programme performance will be undertaken by the Commission in collaboration with the Member States in 2017 and 2019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2017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sessment of progress against milestones (based on financial and output indicators) – Commission can make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2019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sessment of progress against milestones (may also include result indicators) for the purpose of allocating the performance res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formance reserve to be allocated to those programmes, or priorities within programmes, that have met their milestones (Commission deci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rther financial sanctions possible in cases of major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Correspondance between PC and RDP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500720" y="765000"/>
            <a:ext cx="71280" cy="56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68360" y="476280"/>
            <a:ext cx="367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nership Contract (Art. 14 CSF Reg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932360" y="476280"/>
            <a:ext cx="3887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ral development programmes (Art. 9 RD Reg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68360" y="1197000"/>
            <a:ext cx="410364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(a)(i): analysis of disparities and development needs in relation to CSF Thematic Objectives (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a)(ii): summary analysis of ex-ante e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(a)(iii): summary of main results expected per TO and per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a)(iv): indicative national allocations per TO and per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a)(v): main priority areas for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a)(vi): horizontal principles and policy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a)(vii): list of programmes per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859280" y="1557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643280" y="1484280"/>
            <a:ext cx="396108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b): SWO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a): ex-ant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c): target setting per focu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i)(i): total Union contribution planned (financial pl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pecific for 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pecific for 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list of regional programmes where relevan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Correspondance between PC and RDP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4500720" y="765000"/>
            <a:ext cx="71280" cy="56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68360" y="476280"/>
            <a:ext cx="367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nership Contract (Art. 14 CSF Reg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932360" y="476280"/>
            <a:ext cx="3887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ral development programmes (Art. 9 RD Reg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68360" y="1197000"/>
            <a:ext cx="4103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(b)(i): mechanisms ensuring coordination between CSF Funds and other Union/national policies and the E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b)(ii): arrangements for integrated approach for the use of CSF Funds for territorial development of urban, rural, coastal and fisheries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(c): integrated approach to address specific needs of particular areas/target groups (poverty, risk of discrimination/exclusion, marginalised communitie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59280" y="1557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788000" y="1341360"/>
            <a:ext cx="39607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m): focus on coordination first – second pi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f): focus on coordination for implementation arrangements for LEADER projects in rural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b) : SWOT analysis (in particular as regards Priority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Correspondance between PC and RDP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4500720" y="765000"/>
            <a:ext cx="71280" cy="56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468360" y="476280"/>
            <a:ext cx="367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nership Contract (Art. 14 CSF Reg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932360" y="476280"/>
            <a:ext cx="3887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ral development programmes (Art. 9 RD Reg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68360" y="1268280"/>
            <a:ext cx="410364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d)(i): table on milestones &amp;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d)(ii): summary assessment ex-ante condition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d)(iii): compliance with rules of addi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d)(iv): actions to involve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e)(i): assessment of needs to reinforce capacities of authorities, beneficiaries and actions to be t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(e)(ii): actions planned for reducing admin burden for benefici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e)(iii): assessment of electronic data exchang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859280" y="1557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788000" y="1341360"/>
            <a:ext cx="4105080" cy="45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d):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d): ex-ante condition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pecific for 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o): designation of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Annex IV: ex-ante conditionality (HC1) on MS administrative efficienc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c)(v): action to simplify implementation of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Article 77: electronic information system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3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3C3B-FCAB-4D67-8839-CD5088D090FD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numero diapositiva 5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7450-839F-4AA4-962A-541B6CEBA74A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6738-484C-4D9E-ABE4-1B0280837676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1185-C989-447B-B957-65E74DE37FCF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egnaposto numero diapositiva 5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3F25-DDB1-495B-B4E8-BBE2E74C93C4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684360" y="1700280"/>
            <a:ext cx="7775280" cy="792000"/>
          </a:xfrm>
          <a:prstGeom prst="flowChartProcess">
            <a:avLst/>
          </a:prstGeom>
          <a:solidFill>
            <a:srgbClr val="0099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mon Strategic Framework (CSF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vering the EAFRD, ERDF, ESF, Cohesion Fund and EMFF (the “CSF Funds”) , and reflec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U2020 through common thematic objectives to be addressed by key actions for each of the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84360" y="2852640"/>
            <a:ext cx="7775280" cy="79236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nership Contrac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national document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lining the intended use of the funds in the pursuit of EU2020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84360" y="4076640"/>
            <a:ext cx="2663640" cy="719280"/>
          </a:xfrm>
          <a:prstGeom prst="rect">
            <a:avLst/>
          </a:prstGeom>
          <a:solidFill>
            <a:srgbClr val="00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ral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licy: EAF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564000" y="4076640"/>
            <a:ext cx="4895640" cy="719280"/>
          </a:xfrm>
          <a:prstGeom prst="rect">
            <a:avLst/>
          </a:prstGeom>
          <a:solidFill>
            <a:srgbClr val="00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ther CSF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DF, ESF, CF, EMF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11280" y="5229360"/>
            <a:ext cx="7920000" cy="647640"/>
          </a:xfrm>
          <a:prstGeom prst="rect">
            <a:avLst/>
          </a:prstGeom>
          <a:solidFill>
            <a:srgbClr val="0099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ural Development Programm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- Structured around six priorities for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684360" y="620640"/>
            <a:ext cx="7775280" cy="720720"/>
          </a:xfrm>
          <a:prstGeom prst="flowChartProcess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 2020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- Defines headline targets to be achieved by the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4284720" y="1341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284720" y="2492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1763640" y="479736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Connettore 2 19"/>
          <p:cNvCxnSpPr/>
          <p:nvPr/>
        </p:nvCxnSpPr>
        <p:spPr>
          <a:xfrm flipH="1">
            <a:off x="2626920" y="3716280"/>
            <a:ext cx="432720" cy="362520"/>
          </a:xfrm>
          <a:prstGeom prst="straightConnector1">
            <a:avLst/>
          </a:prstGeom>
          <a:ln w="5076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cxnSp>
        <p:nvCxnSpPr>
          <p:cNvPr id="107" name="Connettore 2 22"/>
          <p:cNvCxnSpPr/>
          <p:nvPr/>
        </p:nvCxnSpPr>
        <p:spPr>
          <a:xfrm>
            <a:off x="3779640" y="3716280"/>
            <a:ext cx="432360" cy="362520"/>
          </a:xfrm>
          <a:prstGeom prst="straightConnector1">
            <a:avLst/>
          </a:prstGeom>
          <a:ln w="5076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sp>
        <p:nvSpPr>
          <p:cNvPr id="108" name="Text Box 6"/>
          <p:cNvSpPr/>
          <p:nvPr/>
        </p:nvSpPr>
        <p:spPr>
          <a:xfrm>
            <a:off x="6659640" y="11592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333399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The Common Strategic Framework (CSF)</a:t>
            </a:r>
            <a:br>
              <a:rPr sz="28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Article 17 CSF Funds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EU strategic document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: replaces Community strategic guidelines for rural develop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nsures a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concentrated action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coordination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of the CSF funds to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translate the EU2020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objectives and targets into key 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atic obje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ac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be supported by each CSF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s ke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itorial challen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urban, rural, coastal and fisheries areas and areas with particular territori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s horizonta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cipl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dentifies priority areas for cooperation activities for the CFS Funds (where relev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line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ordination mechanism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etween CSF Funds and other Union instruments/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des for the mechanisms for ensuring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herence and consistency with economic poli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the Un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68360" y="836640"/>
            <a:ext cx="7920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95280" y="1484280"/>
            <a:ext cx="2448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RD Focus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2916360" y="1773360"/>
            <a:ext cx="2016000" cy="503280"/>
          </a:xfrm>
          <a:prstGeom prst="rightArrow">
            <a:avLst>
              <a:gd name="adj1" fmla="val 50000"/>
              <a:gd name="adj2" fmla="val 1001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987640" y="1484280"/>
            <a:ext cx="2232000" cy="576360"/>
          </a:xfrm>
          <a:prstGeom prst="rightArrow">
            <a:avLst>
              <a:gd name="adj1" fmla="val 50000"/>
              <a:gd name="adj2" fmla="val 9681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708360" y="1484280"/>
            <a:ext cx="2089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SF Thematic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0920" y="2349360"/>
            <a:ext cx="2448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a) better integrating primary producers into the food chain through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chemes, promotion in local markets and short supply circuits, produ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roups and inter-branch organis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0920" y="50846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(b) Supporting farm risk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588000" y="198900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ricultural output under supported quality production sc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2843280" y="3141720"/>
            <a:ext cx="64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 flipV="1">
            <a:off x="5867280" y="2492280"/>
            <a:ext cx="792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2916360" y="5373720"/>
            <a:ext cx="7207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4"/>
          <p:cNvSpPr/>
          <p:nvPr/>
        </p:nvSpPr>
        <p:spPr>
          <a:xfrm>
            <a:off x="5867280" y="5300640"/>
            <a:ext cx="7207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6659640" y="4653000"/>
            <a:ext cx="194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Agricultural output under RDP-supported risk management sc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6659640" y="27813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ricultural output sold via short marketing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5867280" y="314172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6732720" y="3645000"/>
            <a:ext cx="208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ricultural output sold via Producer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5867280" y="3141720"/>
            <a:ext cx="93672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39640" y="836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ority 3: Promoting food chain organisation and risk management in 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492360" y="2637000"/>
            <a:ext cx="23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Enhancing the competitiveness of SMEs, the agricultural sector and fisheries and aqua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492360" y="4797360"/>
            <a:ext cx="23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Enhancing the competitiveness of SMEs, the agricultural sector and fisheries and aqua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300720" y="1484280"/>
            <a:ext cx="2664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utcomes (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348000" y="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Correspondence between RD priorities and CSF Thematic Objective: an example (priority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468360" y="692280"/>
            <a:ext cx="7920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ority 5: Promoting resource efficiency and supporting the shift towards a low carbon and climate resilient economy in agriculture, food and forestry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4000" y="5300640"/>
            <a:ext cx="259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(e) fostering carbon sequestration in agriculture and fore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95280" y="1341360"/>
            <a:ext cx="2448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RD Focus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2916360" y="1773360"/>
            <a:ext cx="2016000" cy="503280"/>
          </a:xfrm>
          <a:prstGeom prst="rightArrow">
            <a:avLst>
              <a:gd name="adj1" fmla="val 50000"/>
              <a:gd name="adj2" fmla="val 1001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987640" y="1484280"/>
            <a:ext cx="2232000" cy="576360"/>
          </a:xfrm>
          <a:prstGeom prst="rightArrow">
            <a:avLst>
              <a:gd name="adj1" fmla="val 50000"/>
              <a:gd name="adj2" fmla="val 9681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564000" y="1341360"/>
            <a:ext cx="2376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SF Thematic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24000" y="1700280"/>
            <a:ext cx="24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) increasing efficiency in water use by 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348000" y="1700280"/>
            <a:ext cx="26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Protecting the environment and promoting resource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50920" y="242100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(b) increasing efficiency in energy use in agriculture and food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24000" y="3213000"/>
            <a:ext cx="28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(c) facilitating the supply and use of renewable sources of energy, of by-products, wastes, residues and other non food raw material for purposes of the bio-econ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24000" y="458136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(d) reducing nitrous oxide and methane emissions from 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6516720" y="177336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Water savings in 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700360" y="1989000"/>
            <a:ext cx="649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5940360" y="198900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916360" y="2781360"/>
            <a:ext cx="7207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5867280" y="2781360"/>
            <a:ext cx="7207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6588000" y="242100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Energy savings in the agricultural and food-processing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3780000" y="350028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Supporting the shift towards a low-carbon economy in all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3059280" y="3716280"/>
            <a:ext cx="647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5867280" y="3860640"/>
            <a:ext cx="7207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6588000" y="3645000"/>
            <a:ext cx="19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9900"/>
                </a:solidFill>
                <a:latin typeface="Arial"/>
              </a:rPr>
              <a:t>Renewable energy pro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732720" y="4508640"/>
            <a:ext cx="18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Reduction of CO2 equivalent e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6659640" y="5229360"/>
            <a:ext cx="223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cc"/>
                </a:solidFill>
                <a:latin typeface="Arial"/>
              </a:rPr>
              <a:t>UAA under management contracts contributing to carbon seque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2987640" y="494172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5940360" y="486900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2916360" y="5589720"/>
            <a:ext cx="64764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5940360" y="5661000"/>
            <a:ext cx="64764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3780000" y="249228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Supporting the shift towards a low-carbon economy in all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3851280" y="4508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Supporting the shift towards a low-carbon economy in all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3851280" y="5300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Supporting the shift towards a low-carbon economy in all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227640" y="1341360"/>
            <a:ext cx="2664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utcomes (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348000" y="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Correspondence between RD priorities and CSF Thematic Objective: an example (priority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3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8D99-99ED-440C-9279-BFCEA9EB6737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95280" y="907920"/>
            <a:ext cx="792000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ority 5: Promoting resource efficiency and supporting the shift towards a low carbon and climate resilient economy in agriculture, food and forestry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50920" y="189000"/>
            <a:ext cx="8713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Priorities and grouping of measures (an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2700360" y="2205000"/>
            <a:ext cx="3600360" cy="216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s in physic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 and business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llage renewal and basic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isory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s in forest area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-operation (new technolog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4643280" y="1628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924360" y="1700280"/>
            <a:ext cx="41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ing of relevant measures (indicative list in Annex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324000" y="1916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ocus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3995640" y="5877000"/>
            <a:ext cx="19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8"/>
          <p:cNvSpPr/>
          <p:nvPr/>
        </p:nvSpPr>
        <p:spPr>
          <a:xfrm>
            <a:off x="6732720" y="2492280"/>
            <a:ext cx="1728720" cy="1513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dicative list of relev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perations to be suppor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- Eligibility ru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- Aid-intens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enefici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dicative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ther conditions, et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6659640" y="2060640"/>
            <a:ext cx="17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asure details (exam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2"/>
          <p:cNvSpPr/>
          <p:nvPr/>
        </p:nvSpPr>
        <p:spPr>
          <a:xfrm>
            <a:off x="6300720" y="3068640"/>
            <a:ext cx="432000" cy="144360"/>
          </a:xfrm>
          <a:prstGeom prst="leftRightArrow">
            <a:avLst>
              <a:gd name="adj1" fmla="val 50000"/>
              <a:gd name="adj2" fmla="val 5957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3"/>
          <p:cNvSpPr/>
          <p:nvPr/>
        </p:nvSpPr>
        <p:spPr>
          <a:xfrm>
            <a:off x="1116000" y="1484280"/>
            <a:ext cx="125280" cy="432000"/>
          </a:xfrm>
          <a:prstGeom prst="upDownArrow">
            <a:avLst>
              <a:gd name="adj1" fmla="val 50000"/>
              <a:gd name="adj2" fmla="val 6864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5"/>
          <p:cNvSpPr/>
          <p:nvPr/>
        </p:nvSpPr>
        <p:spPr>
          <a:xfrm>
            <a:off x="395280" y="2276640"/>
            <a:ext cx="1728720" cy="287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fficiency in water u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6"/>
          <p:cNvSpPr/>
          <p:nvPr/>
        </p:nvSpPr>
        <p:spPr>
          <a:xfrm>
            <a:off x="395280" y="2708280"/>
            <a:ext cx="1728720" cy="287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fficiency in energy u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7"/>
          <p:cNvSpPr/>
          <p:nvPr/>
        </p:nvSpPr>
        <p:spPr>
          <a:xfrm>
            <a:off x="395280" y="3141720"/>
            <a:ext cx="1728720" cy="36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 and use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9"/>
          <p:cNvSpPr/>
          <p:nvPr/>
        </p:nvSpPr>
        <p:spPr>
          <a:xfrm>
            <a:off x="395280" y="3645000"/>
            <a:ext cx="1728720" cy="36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ducing nitrous oxi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amp; methane emis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395280" y="4149720"/>
            <a:ext cx="1728720" cy="36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arbon sequest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4"/>
          <p:cNvSpPr/>
          <p:nvPr/>
        </p:nvSpPr>
        <p:spPr>
          <a:xfrm>
            <a:off x="2124000" y="2349360"/>
            <a:ext cx="503280" cy="1943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x-ante conditionalities</a:t>
            </a:r>
            <a:br>
              <a:rPr sz="28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Article 17 CSF Funds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Represent essential requirements to ensure that the necessary conditions for the effective use of Union support is in pl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definition of GAEC for AEC commi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be fulfilled by Member States before the start of the programmes, or early on during implementation of the programm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d-specific ex-ante conditionalities (Annex IV RD Regul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ex-ante conditionalities: common to all the CSF Funds (Annex IV CSF Funds Regul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ssion to assess information on fulfillment of ex-ante conditional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 States to provide action plan on fulfilling ex-ante conditionalities unmet when Partnership Contract 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he action plan should contain: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ailed actions relating to the fulfilment of ex-ante condition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table for their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x-Ante Conditionalities</a:t>
            </a:r>
            <a:br>
              <a:rPr sz="28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RD specific conditions (Annex IV RD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riority 1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Research &amp; Innov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national/regional strategy for smart specialisation; national framework with budgetary resources for R&amp;D; national action plan for budgeting and prioritization of invest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Advisory capac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escription of structure of regional/national advisory services to serve the RD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riority 2 &amp; 3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Business set-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specific actions in place for implementing the « Small Business Ac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x-Ante Conditionalities</a:t>
            </a:r>
            <a:br>
              <a:rPr sz="28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D specific conditions (Annex IV RD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iority 4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GAE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standards defined in law and specified in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Minimum requirements for fertilisers and plant protec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to be specified in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Other relevant national standard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to be specified in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Risk preven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national risk assessment for disaster management is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iority 5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GHG emissio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report on adopted national policies to reduce GHG emissions is submitted to the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Energy efficienc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Energy Efficiency Action Plan detailing measures targeting energy savings is submitted to the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Water pric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existence of water pricing policy respecting the principle of recovery of costs of water services, based on relevant economic analysis by relevant s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Waste management plans (WMP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one or more WMP are esta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Renewable ener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a national renewable energy action plan is adop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5:29:45Z</dcterms:created>
  <dc:creator>folkecn</dc:creator>
  <dc:description/>
  <dc:language>en-US</dc:language>
  <cp:lastModifiedBy>huub kwantes</cp:lastModifiedBy>
  <dcterms:modified xsi:type="dcterms:W3CDTF">2012-02-28T10:20:28Z</dcterms:modified>
  <cp:revision>7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 by">
    <vt:lpwstr>agri-publications@ec.europa.eu</vt:lpwstr>
  </property>
</Properties>
</file>