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10.wmf" ContentType="image/x-wmf"/>
  <Override PartName="/ppt/media/image2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3.jpeg" ContentType="image/jpeg"/>
  <Override PartName="/ppt/media/image6.jpeg" ContentType="image/jpe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4768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20520" y="744120"/>
            <a:ext cx="496548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9427680"/>
            <a:ext cx="29480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47680" y="9427680"/>
            <a:ext cx="29480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4AC4-BFCB-439E-A9FA-8391929611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847680" y="9427680"/>
            <a:ext cx="29480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79F2-F8AE-43C5-A8DC-17003B2A85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9427680"/>
            <a:ext cx="29480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4768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3847680" y="9427680"/>
            <a:ext cx="29480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ED76-2032-4BD2-832F-4B915C0ADBB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9427680"/>
            <a:ext cx="29480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84768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26167-97B5-47D9-92AB-9381A2CE5B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35080" y="2133360"/>
            <a:ext cx="770400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35080" y="3364920"/>
            <a:ext cx="770400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FBAAC-052B-4411-BC69-8FC61DC8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35080" y="2133360"/>
            <a:ext cx="37594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2840" y="2133360"/>
            <a:ext cx="37594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35080" y="3364920"/>
            <a:ext cx="37594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2840" y="3364920"/>
            <a:ext cx="37594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43FFB-23A3-47D7-B739-1E9F517C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35080" y="2133360"/>
            <a:ext cx="248040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40040" y="2133360"/>
            <a:ext cx="248040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4640" y="2133360"/>
            <a:ext cx="248040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35080" y="3364920"/>
            <a:ext cx="248040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40040" y="3364920"/>
            <a:ext cx="248040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4640" y="3364920"/>
            <a:ext cx="248040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1C0A8-665B-4BA8-AEE0-95CFE345E5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35080" y="2133360"/>
            <a:ext cx="77040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35080" y="2133360"/>
            <a:ext cx="770400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35080" y="2133360"/>
            <a:ext cx="375948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82840" y="2133360"/>
            <a:ext cx="375948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16000" y="1197000"/>
            <a:ext cx="77040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35080" y="2133360"/>
            <a:ext cx="37594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82840" y="2133360"/>
            <a:ext cx="375948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35080" y="3364920"/>
            <a:ext cx="37594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35080" y="2133360"/>
            <a:ext cx="77040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47A44-0736-4EF5-9510-B0F83E4C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35080" y="2133360"/>
            <a:ext cx="375948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82840" y="2133360"/>
            <a:ext cx="37594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82840" y="3364920"/>
            <a:ext cx="37594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35080" y="2133360"/>
            <a:ext cx="37594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82840" y="2133360"/>
            <a:ext cx="37594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35080" y="3364920"/>
            <a:ext cx="770400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35080" y="2133360"/>
            <a:ext cx="770400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35080" y="3364920"/>
            <a:ext cx="770400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35080" y="2133360"/>
            <a:ext cx="37594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82840" y="2133360"/>
            <a:ext cx="37594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35080" y="3364920"/>
            <a:ext cx="37594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82840" y="3364920"/>
            <a:ext cx="37594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35080" y="2133360"/>
            <a:ext cx="248040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40040" y="2133360"/>
            <a:ext cx="248040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44640" y="2133360"/>
            <a:ext cx="248040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35080" y="3364920"/>
            <a:ext cx="248040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40040" y="3364920"/>
            <a:ext cx="248040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44640" y="3364920"/>
            <a:ext cx="248040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35080" y="2133360"/>
            <a:ext cx="770400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0EA11-8CA2-4925-AFB2-0A03C68A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35080" y="2133360"/>
            <a:ext cx="375948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2840" y="2133360"/>
            <a:ext cx="375948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B6E06-AD67-4C76-98BD-AE311685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753B9-0DC4-412C-9AC9-063ABF7E9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16000" y="1197000"/>
            <a:ext cx="77040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47047-2AE1-4575-B160-4A584DF0F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35080" y="2133360"/>
            <a:ext cx="37594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2840" y="2133360"/>
            <a:ext cx="375948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35080" y="3364920"/>
            <a:ext cx="37594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B4AC3-2EF2-42E4-B682-F4243998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35080" y="2133360"/>
            <a:ext cx="375948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2840" y="2133360"/>
            <a:ext cx="37594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2840" y="3364920"/>
            <a:ext cx="37594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349D2-57EA-407B-9660-BB37D9EF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35080" y="2133360"/>
            <a:ext cx="37594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840" y="2133360"/>
            <a:ext cx="375948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35080" y="3364920"/>
            <a:ext cx="7704000" cy="11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CF176-3ACA-43E8-833A-6F6F27AF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35080" y="2133360"/>
            <a:ext cx="770400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4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58560" y="6153120"/>
            <a:ext cx="73515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GRI-L1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CAP perspectives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167680" y="6178680"/>
            <a:ext cx="5032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fff6ec"/>
                </a:solidFill>
                <a:latin typeface="Arial"/>
                <a:ea typeface="Arial"/>
              </a:defRPr>
            </a:lvl1pPr>
          </a:lstStyle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1CA1-55E7-42F5-88B4-14626C6DB849}" type="slidenum">
              <a:rPr b="1" lang="de-DE" sz="1000" spc="-1" strike="noStrike">
                <a:solidFill>
                  <a:srgbClr val="fff6ec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308720" y="179280"/>
            <a:ext cx="1548000" cy="873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2268360" y="-3240"/>
            <a:ext cx="1173240" cy="1173240"/>
          </a:xfrm>
          <a:prstGeom prst="rect">
            <a:avLst/>
          </a:prstGeom>
          <a:ln w="0">
            <a:noFill/>
          </a:ln>
        </p:spPr>
      </p:pic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308720" y="179280"/>
            <a:ext cx="1548000" cy="874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68000" y="3504960"/>
            <a:ext cx="6551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268360" y="1170000"/>
            <a:ext cx="5740560" cy="22654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ec.europa.eu/agriculture/healthcheck/index_en.htm" TargetMode="External"/><Relationship Id="rId2" Type="http://schemas.openxmlformats.org/officeDocument/2006/relationships/hyperlink" Target="http://ec.europa.eu/agriculture/index_en.htm" TargetMode="External"/><Relationship Id="rId3" Type="http://schemas.openxmlformats.org/officeDocument/2006/relationships/hyperlink" Target="http://ec.europa.eu/agriculture/analysis/index_en.htm" TargetMode="External"/><Relationship Id="rId4" Type="http://schemas.openxmlformats.org/officeDocument/2006/relationships/hyperlink" Target="http://ec.europa.eu/agriculture/analysis/perspec/index_en.htm" TargetMode="External"/><Relationship Id="rId5" Type="http://schemas.openxmlformats.org/officeDocument/2006/relationships/hyperlink" Target="http://ec.europa.eu/agriculture/analysis/perspec/index_en.htm" TargetMode="External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68000" y="3504960"/>
            <a:ext cx="6551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CAP after the Health Check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743200" y="5105160"/>
            <a:ext cx="60768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gricultural Policy Analysis and Perspectives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G for Agriculture and Rural Development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uropean Commission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evolving role of EU support prices - butte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14400" y="2133720"/>
          <a:ext cx="7429680" cy="369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133720"/>
                    <a:ext cx="7429680" cy="36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EBFC2-734F-473F-B45A-F3D25742CC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evolving role of EU support prices - SMP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14400" y="2133720"/>
          <a:ext cx="7429680" cy="369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133720"/>
                    <a:ext cx="7429680" cy="36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C2E99-DCEE-402D-8236-51115964F3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CAP until 2013</a:t>
            </a:r>
            <a:br>
              <a:rPr sz="2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35080" y="2133720"/>
            <a:ext cx="7704000" cy="374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4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ealth Check” – fine tuned the reform proces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irect a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decou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 allowed to move to flatter rates of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article “68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argeted measures to economic/environmental disadvantages in certain regions/sectors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isk management measures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arket mechani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milk quotas by 1% annu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vention streamlined and simpl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ural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hallenges” (Climate change, bioenergy, water management, biodiversity, innovation, dair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ation incr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EA460-5818-41E9-B526-F5E1050E20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. The CAP beyond 2013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35080" y="2133360"/>
            <a:ext cx="7704000" cy="39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4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eneral context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atility in production and pr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onomic cri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d security, climate change, limited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4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nstitutional context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w European Parliament and Com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isbon Trea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w financial perspec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New priorities for EU budget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udget for CAP?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3E2F2-8DA8-4BFD-B71F-B53991F32B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6560" y="1197000"/>
            <a:ext cx="7993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Recent trend of EU agricultural market price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103400" y="1989000"/>
          <a:ext cx="7429320" cy="384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1989000"/>
                    <a:ext cx="7429320" cy="38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10CF8-81C2-4743-9AFE-09BCD4C456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. The CAP beyond 2013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35080" y="2133360"/>
            <a:ext cx="7704000" cy="39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4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eneral context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latility in production and pr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conomic cri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od security, climate change, limited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4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stitutional context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European Parliament and Com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sbon Trea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financial perspec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w priorities for EU budget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udget for CAP?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6B903-3545-4480-A8A5-CCC740C8DC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. The CAP beyond 2013: the debat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35080" y="1989000"/>
            <a:ext cx="77040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4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o we need the “C” and the “P” of the CAP?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4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urrent structure (I and II pillar)? If ye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rect payment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ome support vs. public go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istribution within and among Member St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Market mechanism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fety n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ther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ural development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lance between competition, environmental and rural economy challe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3rd axis of RD an integral part of the CAP refor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inanc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stribution between pillars and ar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-finan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940360" y="2421000"/>
            <a:ext cx="216000" cy="287280"/>
          </a:xfrm>
          <a:prstGeom prst="downArrow">
            <a:avLst>
              <a:gd name="adj1" fmla="val 50000"/>
              <a:gd name="adj2" fmla="val 332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82450-2897-46A2-91D8-3433AA76CF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684360" y="1125360"/>
          <a:ext cx="8273880" cy="491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125360"/>
                    <a:ext cx="8273880" cy="49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2" name=""/>
          <p:cNvGrpSpPr/>
          <p:nvPr/>
        </p:nvGrpSpPr>
        <p:grpSpPr>
          <a:xfrm>
            <a:off x="1281240" y="2892600"/>
            <a:ext cx="3024000" cy="647640"/>
            <a:chOff x="1281240" y="2892600"/>
            <a:chExt cx="3024000" cy="647640"/>
          </a:xfrm>
        </p:grpSpPr>
        <p:sp>
          <p:nvSpPr>
            <p:cNvPr id="153" name=""/>
            <p:cNvSpPr/>
            <p:nvPr/>
          </p:nvSpPr>
          <p:spPr>
            <a:xfrm>
              <a:off x="1281240" y="2892600"/>
              <a:ext cx="3024000" cy="647640"/>
            </a:xfrm>
            <a:prstGeom prst="ellipse">
              <a:avLst/>
            </a:prstGeom>
            <a:noFill/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31800" y="3035160"/>
              <a:ext cx="720360" cy="4334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435640" y="3544920"/>
            <a:ext cx="2736720" cy="647640"/>
            <a:chOff x="5435640" y="3544920"/>
            <a:chExt cx="2736720" cy="647640"/>
          </a:xfrm>
        </p:grpSpPr>
        <p:sp>
          <p:nvSpPr>
            <p:cNvPr id="156" name=""/>
            <p:cNvSpPr/>
            <p:nvPr/>
          </p:nvSpPr>
          <p:spPr>
            <a:xfrm>
              <a:off x="5435640" y="3544920"/>
              <a:ext cx="2736720" cy="647640"/>
            </a:xfrm>
            <a:prstGeom prst="ellipse">
              <a:avLst/>
            </a:prstGeom>
            <a:noFill/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16360" y="3689280"/>
              <a:ext cx="576000" cy="4316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4C421-5146-4502-BE74-2FC54B43DE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. The CAP beyond 2013: the debat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35080" y="1989000"/>
            <a:ext cx="77040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4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o we need the “C” and the “P” of the CAP?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4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urrent structure (I and II pillar)? If ye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irect payment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come support vs. public go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distribution within and among Member St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rket mechanism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fety n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ural development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lance between competition, environmental and rural economy challe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3rd axis of RD an integral part of the CAP refor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nanc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tribution between pillars and ar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-finan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940360" y="2421000"/>
            <a:ext cx="216000" cy="287280"/>
          </a:xfrm>
          <a:prstGeom prst="downArrow">
            <a:avLst>
              <a:gd name="adj1" fmla="val 50000"/>
              <a:gd name="adj2" fmla="val 332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22ACF-D9D1-4B19-82A4-7008268C60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492360" y="189000"/>
            <a:ext cx="44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n a nutshell, CAP policy question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638680" y="1268280"/>
            <a:ext cx="3124440" cy="2590920"/>
            <a:chOff x="5638680" y="1268280"/>
            <a:chExt cx="3124440" cy="2590920"/>
          </a:xfrm>
        </p:grpSpPr>
        <p:sp>
          <p:nvSpPr>
            <p:cNvPr id="163" name=""/>
            <p:cNvSpPr/>
            <p:nvPr/>
          </p:nvSpPr>
          <p:spPr>
            <a:xfrm>
              <a:off x="5638680" y="1268280"/>
              <a:ext cx="3124440" cy="2590920"/>
            </a:xfrm>
            <a:prstGeom prst="ellipse">
              <a:avLst/>
            </a:prstGeom>
            <a:solidFill>
              <a:srgbClr val="ffcccc"/>
            </a:solidFill>
            <a:ln w="12600">
              <a:solidFill>
                <a:srgbClr val="a50021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19920" y="2381400"/>
              <a:ext cx="23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a50021"/>
                  </a:solidFill>
                  <a:latin typeface="Arial Black"/>
                </a:rPr>
                <a:t>Direct paym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629400" y="1557360"/>
            <a:ext cx="1143000" cy="457200"/>
            <a:chOff x="6629400" y="1557360"/>
            <a:chExt cx="1143000" cy="457200"/>
          </a:xfrm>
        </p:grpSpPr>
        <p:sp>
          <p:nvSpPr>
            <p:cNvPr id="166" name=""/>
            <p:cNvSpPr/>
            <p:nvPr/>
          </p:nvSpPr>
          <p:spPr>
            <a:xfrm>
              <a:off x="6629400" y="1557360"/>
              <a:ext cx="1143000" cy="45720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a50021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695280" y="1663560"/>
              <a:ext cx="1009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Adjusted SP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781680" y="3213000"/>
            <a:ext cx="838440" cy="381240"/>
            <a:chOff x="6781680" y="3213000"/>
            <a:chExt cx="838440" cy="381240"/>
          </a:xfrm>
        </p:grpSpPr>
        <p:sp>
          <p:nvSpPr>
            <p:cNvPr id="169" name=""/>
            <p:cNvSpPr/>
            <p:nvPr/>
          </p:nvSpPr>
          <p:spPr>
            <a:xfrm>
              <a:off x="6781680" y="3213000"/>
              <a:ext cx="838440" cy="381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a50021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26760" y="328140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GAE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80880" y="1268280"/>
            <a:ext cx="3124440" cy="259092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2381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 Black"/>
              </a:rPr>
              <a:t>Mar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333440" y="3111480"/>
            <a:ext cx="1219320" cy="533520"/>
            <a:chOff x="1333440" y="3111480"/>
            <a:chExt cx="1219320" cy="533520"/>
          </a:xfrm>
        </p:grpSpPr>
        <p:sp>
          <p:nvSpPr>
            <p:cNvPr id="174" name=""/>
            <p:cNvSpPr/>
            <p:nvPr/>
          </p:nvSpPr>
          <p:spPr>
            <a:xfrm>
              <a:off x="1333440" y="3111480"/>
              <a:ext cx="1219320" cy="5335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15880" y="3179880"/>
              <a:ext cx="1054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Price support/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Quotas refor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409760" y="1557360"/>
            <a:ext cx="1066680" cy="457200"/>
            <a:chOff x="1409760" y="1557360"/>
            <a:chExt cx="1066680" cy="457200"/>
          </a:xfrm>
        </p:grpSpPr>
        <p:sp>
          <p:nvSpPr>
            <p:cNvPr id="177" name=""/>
            <p:cNvSpPr/>
            <p:nvPr/>
          </p:nvSpPr>
          <p:spPr>
            <a:xfrm>
              <a:off x="1409760" y="1557360"/>
              <a:ext cx="1066680" cy="45720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549440" y="1663560"/>
              <a:ext cx="785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Safety n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059280" y="3429000"/>
            <a:ext cx="3124080" cy="259092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33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87880" y="466236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Arial Black"/>
              </a:rPr>
              <a:t>Rural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419640" y="3860640"/>
            <a:ext cx="1143000" cy="609840"/>
            <a:chOff x="3419640" y="3860640"/>
            <a:chExt cx="1143000" cy="609840"/>
          </a:xfrm>
        </p:grpSpPr>
        <p:sp>
          <p:nvSpPr>
            <p:cNvPr id="182" name=""/>
            <p:cNvSpPr/>
            <p:nvPr/>
          </p:nvSpPr>
          <p:spPr>
            <a:xfrm>
              <a:off x="3419640" y="3860640"/>
              <a:ext cx="1143000" cy="60984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41680" y="3890880"/>
              <a:ext cx="900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Axis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(structur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adjustment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4714920" y="3860640"/>
            <a:ext cx="1143000" cy="609840"/>
            <a:chOff x="4714920" y="3860640"/>
            <a:chExt cx="1143000" cy="609840"/>
          </a:xfrm>
        </p:grpSpPr>
        <p:sp>
          <p:nvSpPr>
            <p:cNvPr id="185" name=""/>
            <p:cNvSpPr/>
            <p:nvPr/>
          </p:nvSpPr>
          <p:spPr>
            <a:xfrm>
              <a:off x="4714920" y="3860640"/>
              <a:ext cx="1143000" cy="60984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73960" y="3967200"/>
              <a:ext cx="1026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Axis 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(environment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011480" y="5229360"/>
            <a:ext cx="1219320" cy="685800"/>
            <a:chOff x="4011480" y="5229360"/>
            <a:chExt cx="1219320" cy="685800"/>
          </a:xfrm>
        </p:grpSpPr>
        <p:sp>
          <p:nvSpPr>
            <p:cNvPr id="188" name=""/>
            <p:cNvSpPr/>
            <p:nvPr/>
          </p:nvSpPr>
          <p:spPr>
            <a:xfrm>
              <a:off x="4011480" y="5229360"/>
              <a:ext cx="1219320" cy="68580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81320" y="5297400"/>
              <a:ext cx="1081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Axis 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(territory an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diversification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4883040" y="1268280"/>
            <a:ext cx="1054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a50021"/>
                </a:solidFill>
                <a:latin typeface="Arial"/>
              </a:rPr>
              <a:t>Phase-out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5981400" y="1419120"/>
            <a:ext cx="685800" cy="2160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48120" y="1268280"/>
            <a:ext cx="17254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Revenue insurance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361600" y="1371240"/>
            <a:ext cx="609480" cy="1522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2920" y="3789360"/>
            <a:ext cx="1054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Phase-out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609120" y="3428280"/>
            <a:ext cx="685800" cy="3049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64000" y="2205000"/>
            <a:ext cx="1944720" cy="0"/>
          </a:xfrm>
          <a:prstGeom prst="line">
            <a:avLst/>
          </a:prstGeom>
          <a:ln w="1908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92200" y="1773360"/>
            <a:ext cx="8895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8080"/>
                </a:solidFill>
                <a:latin typeface="Arial"/>
              </a:rPr>
              <a:t>Inc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52520" y="3970440"/>
            <a:ext cx="719280" cy="647640"/>
          </a:xfrm>
          <a:prstGeom prst="line">
            <a:avLst/>
          </a:prstGeom>
          <a:ln w="1908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2551200">
            <a:off x="1607760" y="4344840"/>
            <a:ext cx="136692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8080"/>
                </a:solidFill>
                <a:latin typeface="Arial"/>
              </a:rPr>
              <a:t>Structural adjus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13500000">
            <a:off x="6706440" y="3934800"/>
            <a:ext cx="423720" cy="13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8080"/>
                </a:solidFill>
                <a:latin typeface="Arial"/>
              </a:rPr>
              <a:t>Public go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324480" y="4005000"/>
            <a:ext cx="720720" cy="718920"/>
          </a:xfrm>
          <a:prstGeom prst="line">
            <a:avLst/>
          </a:prstGeom>
          <a:ln w="1908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63200" y="5661000"/>
            <a:ext cx="7902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00"/>
                </a:solidFill>
                <a:latin typeface="Arial"/>
              </a:rPr>
              <a:t>Future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3419640" y="5589000"/>
            <a:ext cx="504720" cy="21564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B4192-0918-42DB-B912-D87D01B3A9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135080" y="2133720"/>
            <a:ext cx="7704000" cy="25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4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CAP today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4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CAP until 2013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4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CAP beyond 2013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8CD47-2B78-4EEB-8BD8-464CDD63C1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79280" y="1378080"/>
            <a:ext cx="3490920" cy="34909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a50021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92360" y="33336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05440" y="4010040"/>
            <a:ext cx="2016360" cy="20160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333333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9280" y="1378080"/>
            <a:ext cx="3490920" cy="3490920"/>
          </a:xfrm>
          <a:prstGeom prst="ellipse">
            <a:avLst/>
          </a:prstGeom>
          <a:solidFill>
            <a:srgbClr val="a50021"/>
          </a:solidFill>
          <a:ln w="9360">
            <a:solidFill>
              <a:srgbClr val="a50021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31080" y="4135320"/>
            <a:ext cx="1763640" cy="17640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80000" y="469728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Arial Black"/>
              </a:rPr>
              <a:t>R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Arial Black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0920" y="1449360"/>
            <a:ext cx="3346200" cy="33465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a50021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43040" y="29401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50021"/>
                </a:solidFill>
                <a:latin typeface="Arial Black"/>
              </a:rPr>
              <a:t>Direct pay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343400" y="1676520"/>
            <a:ext cx="1600200" cy="1150920"/>
            <a:chOff x="4343400" y="1676520"/>
            <a:chExt cx="1600200" cy="1150920"/>
          </a:xfrm>
        </p:grpSpPr>
        <p:sp>
          <p:nvSpPr>
            <p:cNvPr id="213" name=""/>
            <p:cNvSpPr/>
            <p:nvPr/>
          </p:nvSpPr>
          <p:spPr>
            <a:xfrm>
              <a:off x="4568760" y="1676520"/>
              <a:ext cx="1150920" cy="115092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43400" y="206856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66"/>
                  </a:solidFill>
                  <a:latin typeface="Arial Black"/>
                </a:rPr>
                <a:t>Marke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 flipH="1" rot="20466600">
            <a:off x="7847640" y="242100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 Black"/>
              </a:rPr>
              <a:t>Pillar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 rot="20458200">
            <a:off x="7920720" y="3284280"/>
            <a:ext cx="10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 Black"/>
              </a:rPr>
              <a:t>Pillar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36320" y="2814120"/>
            <a:ext cx="8533080" cy="3030120"/>
          </a:xfrm>
          <a:prstGeom prst="line">
            <a:avLst/>
          </a:prstGeom>
          <a:ln w="936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20187600">
            <a:off x="3520080" y="3645360"/>
            <a:ext cx="38336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d4d4d"/>
                </a:solidFill>
                <a:latin typeface="Arial Black"/>
              </a:rPr>
              <a:t>Post-2013 BUDGET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419640" y="189000"/>
            <a:ext cx="43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 …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nd CAP budget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809880" y="5013360"/>
            <a:ext cx="1143000" cy="971640"/>
            <a:chOff x="3809880" y="5013360"/>
            <a:chExt cx="1143000" cy="971640"/>
          </a:xfrm>
        </p:grpSpPr>
        <p:sp>
          <p:nvSpPr>
            <p:cNvPr id="221" name=""/>
            <p:cNvSpPr/>
            <p:nvPr/>
          </p:nvSpPr>
          <p:spPr>
            <a:xfrm>
              <a:off x="3895560" y="5013360"/>
              <a:ext cx="971640" cy="97164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1c1c1c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09880" y="536256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333333"/>
                  </a:solidFill>
                  <a:latin typeface="Arial Black"/>
                </a:rPr>
                <a:t>Modul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2195640" y="4941720"/>
            <a:ext cx="1584360" cy="57492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4932360" y="5157360"/>
            <a:ext cx="934920" cy="31284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2D1B3-EF16-44E7-8DEE-C2D0B9C8B7D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For further informatio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35080" y="2133720"/>
            <a:ext cx="7337520" cy="33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CAP Health Check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c.europa.eu/agriculture/healthcheck/index_en.htm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EU agriculture and CAP reform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1" i="1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c.europa.eu/agriculture/index_en.htm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Economic Analysis and Evaluation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1" i="1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c.europa.eu/agriculture/analysis/index_en.htm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Agricultural Policy Analysis and Perspective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</a:t>
            </a:r>
            <a:r>
              <a:rPr b="1" i="1" lang="en-GB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ec.europa.eu/agriculture/analysis/perspec/index_en.htm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020BC-85B5-407E-8626-F1F66B655BC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16000" y="284796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8CE5F-6207-432F-A105-DA5BD7FCBBC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6000" y="12654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. The CAP today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35080" y="2150640"/>
            <a:ext cx="7704000" cy="27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4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 substantially reformed policy …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rm support is mainly decoupled and subject to cross-compl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le of market intervention mechanisms is significantly redu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ral Development policy is strengthened with funds and policy instrum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4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nd better performing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urpluses belong to the p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mpetitiveness is 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Better value for mon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53ABE-1889-45A2-9197-A28486C7EF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AP expenditure and CAP reform path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042920" y="2060640"/>
          <a:ext cx="7556400" cy="38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060640"/>
                    <a:ext cx="7556400" cy="38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547640" y="2349360"/>
            <a:ext cx="6521400" cy="557280"/>
            <a:chOff x="1547640" y="2349360"/>
            <a:chExt cx="6521400" cy="557280"/>
          </a:xfrm>
        </p:grpSpPr>
        <p:sp>
          <p:nvSpPr>
            <p:cNvPr id="101" name=""/>
            <p:cNvSpPr/>
            <p:nvPr/>
          </p:nvSpPr>
          <p:spPr>
            <a:xfrm>
              <a:off x="1547640" y="2349360"/>
              <a:ext cx="52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EU-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47800" y="2349360"/>
              <a:ext cx="52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EU-1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08520" y="2349360"/>
              <a:ext cx="52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EU-1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8"/>
            <p:cNvSpPr/>
            <p:nvPr/>
          </p:nvSpPr>
          <p:spPr>
            <a:xfrm>
              <a:off x="1725480" y="2653920"/>
              <a:ext cx="108000" cy="252720"/>
            </a:xfrm>
            <a:prstGeom prst="downArrow">
              <a:avLst>
                <a:gd name="adj1" fmla="val 50000"/>
                <a:gd name="adj2" fmla="val 585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77080" y="2349360"/>
              <a:ext cx="52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EU-2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45240" y="2349360"/>
              <a:ext cx="52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imes New Roman"/>
                </a:rPr>
                <a:t>EU-2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8"/>
            <p:cNvSpPr/>
            <p:nvPr/>
          </p:nvSpPr>
          <p:spPr>
            <a:xfrm>
              <a:off x="2868480" y="2653920"/>
              <a:ext cx="108000" cy="252720"/>
            </a:xfrm>
            <a:prstGeom prst="downArrow">
              <a:avLst>
                <a:gd name="adj1" fmla="val 50000"/>
                <a:gd name="adj2" fmla="val 585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8"/>
            <p:cNvSpPr/>
            <p:nvPr/>
          </p:nvSpPr>
          <p:spPr>
            <a:xfrm>
              <a:off x="5002200" y="2653920"/>
              <a:ext cx="108000" cy="252720"/>
            </a:xfrm>
            <a:prstGeom prst="downArrow">
              <a:avLst>
                <a:gd name="adj1" fmla="val 50000"/>
                <a:gd name="adj2" fmla="val 585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8"/>
            <p:cNvSpPr/>
            <p:nvPr/>
          </p:nvSpPr>
          <p:spPr>
            <a:xfrm>
              <a:off x="7105680" y="2653920"/>
              <a:ext cx="107640" cy="252720"/>
            </a:xfrm>
            <a:prstGeom prst="downArrow">
              <a:avLst>
                <a:gd name="adj1" fmla="val 50000"/>
                <a:gd name="adj2" fmla="val 58696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8"/>
            <p:cNvSpPr/>
            <p:nvPr/>
          </p:nvSpPr>
          <p:spPr>
            <a:xfrm>
              <a:off x="7826400" y="2653920"/>
              <a:ext cx="107640" cy="252720"/>
            </a:xfrm>
            <a:prstGeom prst="downArrow">
              <a:avLst>
                <a:gd name="adj1" fmla="val 50000"/>
                <a:gd name="adj2" fmla="val 58696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E806C-6BDC-42E0-8CE4-AACD7CE6A9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5003640" y="1916280"/>
          <a:ext cx="3807000" cy="41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1916280"/>
                    <a:ext cx="3807000" cy="41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nd alternative views on its cos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11280" y="1987560"/>
          <a:ext cx="3806640" cy="400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1987560"/>
                    <a:ext cx="3806640" cy="40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6202080" y="2133720"/>
            <a:ext cx="1321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CAP cost in 2008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in relative term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73880" y="2133720"/>
            <a:ext cx="13845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CAP cost in 2008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in absolute term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3860640"/>
            <a:ext cx="1152720" cy="648000"/>
          </a:xfrm>
          <a:prstGeom prst="wedgeRectCallout">
            <a:avLst>
              <a:gd name="adj1" fmla="val 27962"/>
              <a:gd name="adj2" fmla="val 14166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0.43%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EU G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98520" y="4113360"/>
            <a:ext cx="4389480" cy="10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87280" y="3068640"/>
            <a:ext cx="1297080" cy="647640"/>
          </a:xfrm>
          <a:prstGeom prst="wedgeRectCallout">
            <a:avLst>
              <a:gd name="adj1" fmla="val 27847"/>
              <a:gd name="adj2" fmla="val 9975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45.9% of EU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21888-D5BF-4E5C-987A-BA2DAFA3E3E2}" type="slidenum">
              <a:t>5</a:t>
            </a:fld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16000" y="12654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. The CAP today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35080" y="2150640"/>
            <a:ext cx="7704000" cy="27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4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 substantially reformed policy …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arm support is mainly decoupled and subject to cross-compl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ole of market intervention mechanisms is significantly redu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ural Development policy is strengthened with funds and policy instrum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4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d better performing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rpluses belong to the p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petitiveness is 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etter value for mon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C110E-4C1E-4EB6-951C-06AA6FEE21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Impact of CAP reforms on EU net production surplu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00000" y="1986120"/>
          <a:ext cx="7531200" cy="38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986120"/>
                    <a:ext cx="7531200" cy="38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75D00-8A71-4331-A368-252F77CD40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evolving role of EU support prices - wheat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14400" y="2133720"/>
          <a:ext cx="7429680" cy="369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133720"/>
                    <a:ext cx="7429680" cy="36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441F9-2895-4AC7-9157-191B7548B3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e evolving role of EU support prices - beef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2133720"/>
          <a:ext cx="7429680" cy="369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133720"/>
                    <a:ext cx="7429680" cy="36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194A2-0115-4635-BEF5-712C616A3F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8T08:24:04Z</dcterms:created>
  <dc:creator>cortepr</dc:creator>
  <dc:description/>
  <dc:language>en-US</dc:language>
  <cp:lastModifiedBy>cortepr</cp:lastModifiedBy>
  <dcterms:modified xsi:type="dcterms:W3CDTF">2009-10-01T10:03:13Z</dcterms:modified>
  <cp:revision>212</cp:revision>
  <dc:subject/>
  <dc:title>The “Health Check” of the CAP reform: Legislative proposa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07944442</vt:r8>
  </property>
  <property fmtid="{D5CDD505-2E9C-101B-9397-08002B2CF9AE}" pid="3" name="_AuthorEmail">
    <vt:lpwstr>Mark.Cropper@ec.europa.eu</vt:lpwstr>
  </property>
  <property fmtid="{D5CDD505-2E9C-101B-9397-08002B2CF9AE}" pid="4" name="_AuthorEmailDisplayName">
    <vt:lpwstr>CROPPER Mark (AGRI)</vt:lpwstr>
  </property>
  <property fmtid="{D5CDD505-2E9C-101B-9397-08002B2CF9AE}" pid="5" name="_EmailSubject">
    <vt:lpwstr>Registration form Mark Cropper</vt:lpwstr>
  </property>
  <property fmtid="{D5CDD505-2E9C-101B-9397-08002B2CF9AE}" pid="6" name="_NewReviewCycle">
    <vt:lpwstr/>
  </property>
</Properties>
</file>