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2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52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4BD3-07D1-4B63-8CE9-A9F5F7918E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11D6-EC46-4C4A-9619-E49077830C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972A-281C-4EB7-9EB4-9D6F58CBCD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4987A-0FA3-44CB-974B-965E1E15C9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77040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35080" y="3364920"/>
            <a:ext cx="77040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A5076-3A24-442B-BEE4-43BE3424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35080" y="336492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2840" y="336492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8EA0-1738-467E-9838-CAB9F67F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40040" y="213336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4640" y="213336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35080" y="336492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40040" y="336492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4640" y="336492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5D89-1E8E-4FEE-9ECE-02AD9C767E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35080" y="2133360"/>
            <a:ext cx="77040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77040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6000" y="1197000"/>
            <a:ext cx="7704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35080" y="336492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35080" y="2133360"/>
            <a:ext cx="77040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0B0B7-A729-4C01-8466-D82AF135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82840" y="336492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35080" y="3364920"/>
            <a:ext cx="77040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77040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35080" y="3364920"/>
            <a:ext cx="77040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35080" y="336492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82840" y="336492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40040" y="213336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44640" y="213336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35080" y="336492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40040" y="336492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44640" y="336492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77040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6B4F-DDCD-40AE-A9AD-95D9A511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925A4-711B-458C-9EF3-298FC8DC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7B6E0-4862-4047-8CF6-A798428A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6000" y="1197000"/>
            <a:ext cx="7704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17C6C-1A2C-4D4C-86B1-348CC41F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35080" y="336492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E49E7-B500-408C-95E1-73AE01E9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2840" y="336492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FCE5B-085D-4A28-AC76-EE4A6523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35080" y="3364920"/>
            <a:ext cx="77040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8532F-D27E-46C8-AEEA-BA8CA133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35080" y="2133360"/>
            <a:ext cx="77040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58560" y="6153120"/>
            <a:ext cx="73515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GRI-L1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AP perspectives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67680" y="6178680"/>
            <a:ext cx="5032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6ec"/>
                </a:solidFill>
                <a:latin typeface="Arial"/>
                <a:ea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FBC4-9222-4D51-81FE-DF78DAFA4452}" type="slidenum">
              <a:rPr b="1" lang="de-DE" sz="1000" spc="-1" strike="noStrike">
                <a:solidFill>
                  <a:srgbClr val="fff6e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308720" y="179280"/>
            <a:ext cx="1548000" cy="873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68360" y="-3240"/>
            <a:ext cx="1173240" cy="117324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08720" y="179280"/>
            <a:ext cx="1548000" cy="874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0" y="3504960"/>
            <a:ext cx="655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268360" y="1170000"/>
            <a:ext cx="5740560" cy="2265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c.europa.eu/agriculture/healthcheck/index_en.htm" TargetMode="External"/><Relationship Id="rId2" Type="http://schemas.openxmlformats.org/officeDocument/2006/relationships/hyperlink" Target="http://ec.europa.eu/agriculture/index_en.htm" TargetMode="External"/><Relationship Id="rId3" Type="http://schemas.openxmlformats.org/officeDocument/2006/relationships/hyperlink" Target="http://ec.europa.eu/agriculture/analysis/index_en.htm" TargetMode="External"/><Relationship Id="rId4" Type="http://schemas.openxmlformats.org/officeDocument/2006/relationships/hyperlink" Target="http://ec.europa.eu/agriculture/analysis/perspec/index_en.htm" TargetMode="External"/><Relationship Id="rId5" Type="http://schemas.openxmlformats.org/officeDocument/2006/relationships/hyperlink" Target="http://ec.europa.eu/agriculture/analysis/perspec/index_en.htm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8000" y="3504960"/>
            <a:ext cx="655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AP after the Health Chec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43200" y="5105160"/>
            <a:ext cx="60768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gricultural Policy Analysis and Perspectives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G for Agriculture and Rural Developmen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uropean Commission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evolving role of EU support prices - butt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14400" y="2133720"/>
          <a:ext cx="742968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42968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E5BB-CDC1-44E0-958A-2C7CEEC821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evolving role of EU support prices - SM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2133720"/>
          <a:ext cx="742968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42968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072B5-2A7E-43EF-95D8-7C68E1567C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AP until 2013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35080" y="2133720"/>
            <a:ext cx="7704000" cy="37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alth Check” – fine tuned the reform proces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rect a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decou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 allowed to move to flatter rates of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article “68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argeted measures to economic/environmental disadvantages in certain regions/sectors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isk management measures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rket 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milk quotas by 1% annu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vention streamlined and simpl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hallenges” (Climate change, bioenergy, water management, biodiversity, innovation, dai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ation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FCAED-973D-4CC7-839B-A2DEDFC744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The CAP beyond 2013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770400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eral contex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atility in production and pr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nomic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 security, climate change, limited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stitutional context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w European Parliament and Com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sbon Trea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w financial persp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New priorities for EU budget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udget for CAP?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ABCD-D104-4C6E-A4E9-639F9C1CF2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1197000"/>
            <a:ext cx="7993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cent trend of EU agricultural market pric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03400" y="1989000"/>
          <a:ext cx="7429320" cy="38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989000"/>
                    <a:ext cx="7429320" cy="38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21A5-30E0-4F9B-A15C-84B92ACA00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The CAP beyond 2013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770400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ral contex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latility in production and pr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conomic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od security, climate change, limited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stitutional context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European Parliament and Com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bon Trea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financial persp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w priorities for EU budget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udget for CAP?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76AD-C06F-4202-B9E7-A31B018F01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The CAP beyond 2013: the deba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35080" y="1989000"/>
            <a:ext cx="77040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o we need the “C” and the “P” of the CAP?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urrent structure (I and II pillar)? If y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rect payment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e support vs. public go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istribution within and among Member 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arket mechanism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fety 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her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ural development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lance between competition, environmental and rural economy 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3rd axis of RD an integral part of the CAP refor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nanc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tribution between pillars and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-fina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242100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7DA5-A580-4740-8FBA-EF4E2178EF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4360" y="1125360"/>
          <a:ext cx="8273880" cy="491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8273880" cy="49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1281240" y="2892600"/>
            <a:ext cx="3024000" cy="647640"/>
            <a:chOff x="1281240" y="2892600"/>
            <a:chExt cx="3024000" cy="647640"/>
          </a:xfrm>
        </p:grpSpPr>
        <p:sp>
          <p:nvSpPr>
            <p:cNvPr id="153" name=""/>
            <p:cNvSpPr/>
            <p:nvPr/>
          </p:nvSpPr>
          <p:spPr>
            <a:xfrm>
              <a:off x="1281240" y="2892600"/>
              <a:ext cx="3024000" cy="64764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1800" y="3035160"/>
              <a:ext cx="720360" cy="433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35640" y="3544920"/>
            <a:ext cx="2736720" cy="647640"/>
            <a:chOff x="5435640" y="3544920"/>
            <a:chExt cx="2736720" cy="647640"/>
          </a:xfrm>
        </p:grpSpPr>
        <p:sp>
          <p:nvSpPr>
            <p:cNvPr id="156" name=""/>
            <p:cNvSpPr/>
            <p:nvPr/>
          </p:nvSpPr>
          <p:spPr>
            <a:xfrm>
              <a:off x="5435640" y="3544920"/>
              <a:ext cx="2736720" cy="64764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16360" y="3689280"/>
              <a:ext cx="576000" cy="431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768DD-4787-47E5-8FB5-A1688D9CEF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The CAP beyond 2013: the deba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35080" y="1989000"/>
            <a:ext cx="77040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o we need the “C” and the “P” of the CAP?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urrent structure (I and II pillar)? If y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irect payment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ome support vs. public go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distribution within and among Member 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ket mechanism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fety 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ural development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ance between competition, environmental and rural economy 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3rd axis of RD an integral part of the CAP refor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an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ribution between pillars and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-fina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242100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407A9-9EAA-4E6C-9AD8-062C5DF52D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492360" y="189000"/>
            <a:ext cx="44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 a nutshell, CAP policy questio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38680" y="1268280"/>
            <a:ext cx="3124440" cy="2590920"/>
            <a:chOff x="5638680" y="1268280"/>
            <a:chExt cx="3124440" cy="2590920"/>
          </a:xfrm>
        </p:grpSpPr>
        <p:sp>
          <p:nvSpPr>
            <p:cNvPr id="163" name=""/>
            <p:cNvSpPr/>
            <p:nvPr/>
          </p:nvSpPr>
          <p:spPr>
            <a:xfrm>
              <a:off x="5638680" y="1268280"/>
              <a:ext cx="3124440" cy="2590920"/>
            </a:xfrm>
            <a:prstGeom prst="ellipse">
              <a:avLst/>
            </a:prstGeom>
            <a:solidFill>
              <a:srgbClr val="ffcccc"/>
            </a:solidFill>
            <a:ln w="12600">
              <a:solidFill>
                <a:srgbClr val="a50021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19920" y="238140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50021"/>
                  </a:solidFill>
                  <a:latin typeface="Arial Black"/>
                </a:rPr>
                <a:t>Direct pay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629400" y="1557360"/>
            <a:ext cx="1143000" cy="457200"/>
            <a:chOff x="6629400" y="1557360"/>
            <a:chExt cx="1143000" cy="457200"/>
          </a:xfrm>
        </p:grpSpPr>
        <p:sp>
          <p:nvSpPr>
            <p:cNvPr id="166" name=""/>
            <p:cNvSpPr/>
            <p:nvPr/>
          </p:nvSpPr>
          <p:spPr>
            <a:xfrm>
              <a:off x="6629400" y="1557360"/>
              <a:ext cx="1143000" cy="4572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95280" y="1663560"/>
              <a:ext cx="100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Adjusted S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781680" y="3213000"/>
            <a:ext cx="838440" cy="381240"/>
            <a:chOff x="6781680" y="3213000"/>
            <a:chExt cx="838440" cy="381240"/>
          </a:xfrm>
        </p:grpSpPr>
        <p:sp>
          <p:nvSpPr>
            <p:cNvPr id="169" name=""/>
            <p:cNvSpPr/>
            <p:nvPr/>
          </p:nvSpPr>
          <p:spPr>
            <a:xfrm>
              <a:off x="6781680" y="3213000"/>
              <a:ext cx="838440" cy="381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26760" y="32814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GAE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880" y="1268280"/>
            <a:ext cx="3124440" cy="25909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381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 Black"/>
              </a:rPr>
              <a:t>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333440" y="3111480"/>
            <a:ext cx="1219320" cy="533520"/>
            <a:chOff x="1333440" y="3111480"/>
            <a:chExt cx="1219320" cy="533520"/>
          </a:xfrm>
        </p:grpSpPr>
        <p:sp>
          <p:nvSpPr>
            <p:cNvPr id="174" name=""/>
            <p:cNvSpPr/>
            <p:nvPr/>
          </p:nvSpPr>
          <p:spPr>
            <a:xfrm>
              <a:off x="1333440" y="3111480"/>
              <a:ext cx="1219320" cy="5335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15880" y="3179880"/>
              <a:ext cx="1054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Price support/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Quotas refor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409760" y="1557360"/>
            <a:ext cx="1066680" cy="457200"/>
            <a:chOff x="1409760" y="1557360"/>
            <a:chExt cx="1066680" cy="457200"/>
          </a:xfrm>
        </p:grpSpPr>
        <p:sp>
          <p:nvSpPr>
            <p:cNvPr id="177" name=""/>
            <p:cNvSpPr/>
            <p:nvPr/>
          </p:nvSpPr>
          <p:spPr>
            <a:xfrm>
              <a:off x="1409760" y="1557360"/>
              <a:ext cx="1066680" cy="45720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49440" y="1663560"/>
              <a:ext cx="78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Safety 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059280" y="3429000"/>
            <a:ext cx="3124080" cy="259092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33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87880" y="46623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 Black"/>
              </a:rPr>
              <a:t>Rur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419640" y="3860640"/>
            <a:ext cx="1143000" cy="609840"/>
            <a:chOff x="3419640" y="3860640"/>
            <a:chExt cx="1143000" cy="609840"/>
          </a:xfrm>
        </p:grpSpPr>
        <p:sp>
          <p:nvSpPr>
            <p:cNvPr id="182" name=""/>
            <p:cNvSpPr/>
            <p:nvPr/>
          </p:nvSpPr>
          <p:spPr>
            <a:xfrm>
              <a:off x="3419640" y="3860640"/>
              <a:ext cx="1143000" cy="60984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41680" y="3890880"/>
              <a:ext cx="900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Axi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(structur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adjustment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714920" y="3860640"/>
            <a:ext cx="1143000" cy="609840"/>
            <a:chOff x="4714920" y="3860640"/>
            <a:chExt cx="1143000" cy="609840"/>
          </a:xfrm>
        </p:grpSpPr>
        <p:sp>
          <p:nvSpPr>
            <p:cNvPr id="185" name=""/>
            <p:cNvSpPr/>
            <p:nvPr/>
          </p:nvSpPr>
          <p:spPr>
            <a:xfrm>
              <a:off x="4714920" y="3860640"/>
              <a:ext cx="1143000" cy="60984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73960" y="3967200"/>
              <a:ext cx="1026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Axi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(environment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11480" y="5229360"/>
            <a:ext cx="1219320" cy="685800"/>
            <a:chOff x="4011480" y="5229360"/>
            <a:chExt cx="1219320" cy="685800"/>
          </a:xfrm>
        </p:grpSpPr>
        <p:sp>
          <p:nvSpPr>
            <p:cNvPr id="188" name=""/>
            <p:cNvSpPr/>
            <p:nvPr/>
          </p:nvSpPr>
          <p:spPr>
            <a:xfrm>
              <a:off x="4011480" y="5229360"/>
              <a:ext cx="1219320" cy="68580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81320" y="5297400"/>
              <a:ext cx="108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Axi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(territory a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diversificatio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883040" y="1268280"/>
            <a:ext cx="1054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a50021"/>
                </a:solidFill>
                <a:latin typeface="Arial"/>
              </a:rPr>
              <a:t>Phase-out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5981400" y="1419120"/>
            <a:ext cx="685800" cy="2160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8120" y="1268280"/>
            <a:ext cx="17254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Revenue insuranc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361600" y="1371240"/>
            <a:ext cx="60948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2920" y="3789360"/>
            <a:ext cx="1054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Phase-out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09120" y="3428280"/>
            <a:ext cx="68580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64000" y="2205000"/>
            <a:ext cx="1944720" cy="0"/>
          </a:xfrm>
          <a:prstGeom prst="line">
            <a:avLst/>
          </a:prstGeom>
          <a:ln w="1908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92200" y="1773360"/>
            <a:ext cx="889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Arial"/>
              </a:rPr>
              <a:t>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52520" y="3970440"/>
            <a:ext cx="719280" cy="647640"/>
          </a:xfrm>
          <a:prstGeom prst="line">
            <a:avLst/>
          </a:prstGeom>
          <a:ln w="1908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2551200">
            <a:off x="1607760" y="4344840"/>
            <a:ext cx="1366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Arial"/>
              </a:rPr>
              <a:t>Structural adju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3500000">
            <a:off x="6706440" y="3934800"/>
            <a:ext cx="423720" cy="13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Arial"/>
              </a:rPr>
              <a:t>Public go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324480" y="4005000"/>
            <a:ext cx="720720" cy="718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63200" y="5661000"/>
            <a:ext cx="790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00"/>
                </a:solidFill>
                <a:latin typeface="Arial"/>
              </a:rPr>
              <a:t>Futur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419640" y="5589000"/>
            <a:ext cx="504720" cy="215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3BCE7-8D59-4A0D-9CDE-8F1EDE89BD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35080" y="2133720"/>
            <a:ext cx="7704000" cy="25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CAP today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CAP until 201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CAP beyond 201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6420C-1009-489F-9E84-71A4EC9484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9280" y="1378080"/>
            <a:ext cx="3490920" cy="34909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333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05440" y="4010040"/>
            <a:ext cx="2016360" cy="20160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1378080"/>
            <a:ext cx="3490920" cy="34909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31080" y="4135320"/>
            <a:ext cx="1763640" cy="17640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80000" y="4697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 Black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 Black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1449360"/>
            <a:ext cx="3346200" cy="3346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3040" y="29401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 Black"/>
              </a:rPr>
              <a:t>Direct pa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343400" y="1676520"/>
            <a:ext cx="1600200" cy="1150920"/>
            <a:chOff x="4343400" y="1676520"/>
            <a:chExt cx="1600200" cy="1150920"/>
          </a:xfrm>
        </p:grpSpPr>
        <p:sp>
          <p:nvSpPr>
            <p:cNvPr id="213" name=""/>
            <p:cNvSpPr/>
            <p:nvPr/>
          </p:nvSpPr>
          <p:spPr>
            <a:xfrm>
              <a:off x="4568760" y="1676520"/>
              <a:ext cx="1150920" cy="11509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43400" y="206856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 Black"/>
                </a:rPr>
                <a:t>Mar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 rot="20466600">
            <a:off x="7847640" y="24210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 Black"/>
              </a:rPr>
              <a:t>Pilla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rot="20458200">
            <a:off x="7920720" y="328428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 Black"/>
              </a:rPr>
              <a:t>Pillar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36320" y="2814120"/>
            <a:ext cx="8533080" cy="303012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20187600">
            <a:off x="3520080" y="3645360"/>
            <a:ext cx="38336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d4d"/>
                </a:solidFill>
                <a:latin typeface="Arial Black"/>
              </a:rPr>
              <a:t>Post-2013 BUDGET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19640" y="189000"/>
            <a:ext cx="43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 CAP budge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809880" y="5013360"/>
            <a:ext cx="1143000" cy="971640"/>
            <a:chOff x="3809880" y="5013360"/>
            <a:chExt cx="1143000" cy="971640"/>
          </a:xfrm>
        </p:grpSpPr>
        <p:sp>
          <p:nvSpPr>
            <p:cNvPr id="221" name=""/>
            <p:cNvSpPr/>
            <p:nvPr/>
          </p:nvSpPr>
          <p:spPr>
            <a:xfrm>
              <a:off x="3895560" y="5013360"/>
              <a:ext cx="971640" cy="9716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9880" y="536256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33"/>
                  </a:solidFill>
                  <a:latin typeface="Arial Black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195640" y="4941720"/>
            <a:ext cx="1584360" cy="57492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932360" y="5157360"/>
            <a:ext cx="934920" cy="31284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05808-EAC9-43A6-ACDB-210DAF6620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or further informa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35080" y="2133720"/>
            <a:ext cx="7337520" cy="33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AP Health Check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agriculture/healthcheck/index_en.ht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U agriculture and CAP refor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i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agriculture/index_en.ht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conomic Analysis and Evaluation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i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c.europa.eu/agriculture/analysis/index_en.ht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gricultural Policy Analysis and Perspectiv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1" i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c.europa.eu/agriculture/analysis/perspec/index_en.ht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9E336-7EB5-48E3-8BC8-44218C87F0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6000" y="284796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272C4-B57B-46E7-980C-2404E124C0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12654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The CAP today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35080" y="2150640"/>
            <a:ext cx="7704000" cy="27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substantially reformed policy …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support is mainly decoupled and subject to cross-com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le of market intervention mechanisms is significantly redu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ral Development policy is strengthened with funds and policy instru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nd better performing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urpluses belong to the p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mpetitiveness is 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etter value for mo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7FE75-DFD2-4CDA-946F-410CA019D3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P expenditure and CAP reform pat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42920" y="2060640"/>
          <a:ext cx="7556400" cy="38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60640"/>
                    <a:ext cx="755640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547640" y="2349360"/>
            <a:ext cx="6521400" cy="557280"/>
            <a:chOff x="1547640" y="2349360"/>
            <a:chExt cx="6521400" cy="557280"/>
          </a:xfrm>
        </p:grpSpPr>
        <p:sp>
          <p:nvSpPr>
            <p:cNvPr id="101" name=""/>
            <p:cNvSpPr/>
            <p:nvPr/>
          </p:nvSpPr>
          <p:spPr>
            <a:xfrm>
              <a:off x="1547640" y="234936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EU-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47800" y="234936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EU-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08520" y="234936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EU-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8"/>
            <p:cNvSpPr/>
            <p:nvPr/>
          </p:nvSpPr>
          <p:spPr>
            <a:xfrm>
              <a:off x="1725480" y="2653920"/>
              <a:ext cx="108000" cy="252720"/>
            </a:xfrm>
            <a:prstGeom prst="downArrow">
              <a:avLst>
                <a:gd name="adj1" fmla="val 50000"/>
                <a:gd name="adj2" fmla="val 585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77080" y="234936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EU-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45240" y="234936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EU-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8"/>
            <p:cNvSpPr/>
            <p:nvPr/>
          </p:nvSpPr>
          <p:spPr>
            <a:xfrm>
              <a:off x="2868480" y="2653920"/>
              <a:ext cx="108000" cy="252720"/>
            </a:xfrm>
            <a:prstGeom prst="downArrow">
              <a:avLst>
                <a:gd name="adj1" fmla="val 50000"/>
                <a:gd name="adj2" fmla="val 585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8"/>
            <p:cNvSpPr/>
            <p:nvPr/>
          </p:nvSpPr>
          <p:spPr>
            <a:xfrm>
              <a:off x="5002200" y="2653920"/>
              <a:ext cx="108000" cy="252720"/>
            </a:xfrm>
            <a:prstGeom prst="downArrow">
              <a:avLst>
                <a:gd name="adj1" fmla="val 50000"/>
                <a:gd name="adj2" fmla="val 585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7105680" y="2653920"/>
              <a:ext cx="107640" cy="252720"/>
            </a:xfrm>
            <a:prstGeom prst="downArrow">
              <a:avLst>
                <a:gd name="adj1" fmla="val 50000"/>
                <a:gd name="adj2" fmla="val 5869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8"/>
            <p:cNvSpPr/>
            <p:nvPr/>
          </p:nvSpPr>
          <p:spPr>
            <a:xfrm>
              <a:off x="7826400" y="2653920"/>
              <a:ext cx="107640" cy="252720"/>
            </a:xfrm>
            <a:prstGeom prst="downArrow">
              <a:avLst>
                <a:gd name="adj1" fmla="val 50000"/>
                <a:gd name="adj2" fmla="val 5869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91D62-C221-4174-B322-79AD62693F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5003640" y="1916280"/>
          <a:ext cx="3807000" cy="41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916280"/>
                    <a:ext cx="3807000" cy="41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d alternative views on its cos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1987560"/>
          <a:ext cx="3806640" cy="400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987560"/>
                    <a:ext cx="3806640" cy="40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6202080" y="2133720"/>
            <a:ext cx="1321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CAP cost in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in relative ter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3880" y="2133720"/>
            <a:ext cx="1384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CAP cost in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in absolute ter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3860640"/>
            <a:ext cx="1152720" cy="648000"/>
          </a:xfrm>
          <a:prstGeom prst="wedgeRectCallout">
            <a:avLst>
              <a:gd name="adj1" fmla="val 27962"/>
              <a:gd name="adj2" fmla="val 1416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0.43%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EU 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8520" y="4113360"/>
            <a:ext cx="4389480" cy="10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3068640"/>
            <a:ext cx="1297080" cy="647640"/>
          </a:xfrm>
          <a:prstGeom prst="wedgeRectCallout">
            <a:avLst>
              <a:gd name="adj1" fmla="val 27847"/>
              <a:gd name="adj2" fmla="val 9975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45.9% of EU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3A90-F77F-4850-A6FF-A05DFE2DA4D2}" type="slidenum">
              <a:t>5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12654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The CAP today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35080" y="2150640"/>
            <a:ext cx="7704000" cy="27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 substantially reformed policy …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rm support is mainly decoupled and subject to cross-com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le of market intervention mechanisms is significantly redu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ural Development policy is strengthened with funds and policy instru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d better performing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pluses belong to the p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etitiveness is 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tter value for mo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574AB-8FE5-403A-9F96-131B6BD3F8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mpact of CAP reforms on EU net production surplu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00000" y="1986120"/>
          <a:ext cx="753120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86120"/>
                    <a:ext cx="753120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02E9-09D2-4815-A505-166B9F8F10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evolving role of EU support prices - whea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2133720"/>
          <a:ext cx="742968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42968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98EA2-071F-4CB0-9AEE-6665AC737C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evolving role of EU support prices - beef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2133720"/>
          <a:ext cx="742968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42968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AD79-BC68-4916-B909-4F1E24BA94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08:24:04Z</dcterms:created>
  <dc:creator>cortepr</dc:creator>
  <dc:description/>
  <dc:language>en-US</dc:language>
  <cp:lastModifiedBy>cortepr</cp:lastModifiedBy>
  <dcterms:modified xsi:type="dcterms:W3CDTF">2009-10-01T10:03:13Z</dcterms:modified>
  <cp:revision>212</cp:revision>
  <dc:subject/>
  <dc:title>The “Health Check” of the CAP reform: Legislative propos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07944442</vt:r8>
  </property>
  <property fmtid="{D5CDD505-2E9C-101B-9397-08002B2CF9AE}" pid="3" name="_AuthorEmail">
    <vt:lpwstr>Mark.Cropper@ec.europa.eu</vt:lpwstr>
  </property>
  <property fmtid="{D5CDD505-2E9C-101B-9397-08002B2CF9AE}" pid="4" name="_AuthorEmailDisplayName">
    <vt:lpwstr>CROPPER Mark (AGRI)</vt:lpwstr>
  </property>
  <property fmtid="{D5CDD505-2E9C-101B-9397-08002B2CF9AE}" pid="5" name="_EmailSubject">
    <vt:lpwstr>Registration form Mark Cropper</vt:lpwstr>
  </property>
  <property fmtid="{D5CDD505-2E9C-101B-9397-08002B2CF9AE}" pid="6" name="_NewReviewCycle">
    <vt:lpwstr/>
  </property>
</Properties>
</file>